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2019-3FC6-4192-92A2-5F8C0780893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B3EC-5FCD-4621-A693-6476BE9B29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ABB-7B53-4A40-B11A-B540FE1358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27CD-57D7-461D-8F15-405E7A72782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842A-3C43-420C-86E7-F82AF89DD39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051-6F4F-47A0-8DC7-5D7655A767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288B-42EA-42C8-A086-D67FA0DA3D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ACF-113C-476A-8F56-EBAEF1A0887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57CA-F2DC-4EF0-9B45-FEC4C782CCC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E2F5-FA8A-4948-BC28-066FF1605E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630-BD01-4B18-8A28-EC258E1494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70F3-B6E3-4972-A005-3A0607168C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B94-0592-4632-81A1-2B0935FB4B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9CB-E889-460C-9C93-E5B1768CBF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2268-DD6C-4226-A4E3-F5E7F8681E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A6C-AC08-4F9A-8E39-44DFFEBA7E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998-05A5-41F2-9835-84E1443C11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774-88A4-4ABB-A5F0-F15825D876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8F6A-B5B9-426D-8172-66CBF36204C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F6DA-89B5-4A36-8882-BE17DF0E04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5359-1F92-4077-930B-7198F310B6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C57F-6452-4AF9-AD5B-9379AB8A88A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B703-0890-4C3A-9CDA-9D9EFC1C2E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FE49-837E-4D99-95A2-2CB4725386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F530-8090-4D0A-8F82-49A26B5036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A160-C877-4450-9A73-14DDEFA222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3D85-E503-4DF8-88B6-8FB8251D693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BD8-A3DF-446E-B399-C0F8662E4B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269F-062F-43E8-9121-8F62E4C7BDD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869C-500B-4CE4-B347-84C150E9B2A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1202-0996-456A-BCAC-F80A4FC339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0667-6580-4FC2-8A26-EFA22DC0A9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31E-25E7-47BC-886B-3F8611BE1FB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409-81F8-4F5E-890A-D0B68E65AC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E77-B491-4C2C-8A87-B8669C3593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4AD0-8DB8-401B-8505-723C7446FF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95280" y="747720"/>
            <a:ext cx="4788000" cy="3591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1006560" y="4560840"/>
            <a:ext cx="53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1A1-8C71-45CF-AAC1-F497D6566A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2EEC-C9EB-40EA-8036-677B32C54DE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A358-0660-4BFC-BCB2-7132AA6C95C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F95-8010-4D4A-B8BE-B0BD77A9A2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6A0D-E41F-46C3-880A-66B950D810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E538-B54A-4196-92E8-0D0EEBBD021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5F54-A2D4-49A1-A077-794A8F6919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714680" y="1063800"/>
            <a:ext cx="3886200" cy="29145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696-07CD-4563-89F3-7872E3C4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E121-B433-4C18-99D3-A2FD4CC1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45B-0C37-4FD2-97EB-D6A43170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67-D714-4A84-95A2-87B18C9E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AC06-BA93-4A30-AF7A-EC5745B8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C4F1-8231-4E7A-9B3A-E7A84E9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33FC-B373-460C-BB43-AED64A97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2EB-6B48-4D9E-A89B-BE3F583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A2C6-BFD5-4263-85B7-0890D955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48B0-BEEB-4792-93A0-9C8DACF9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7C45-5030-4BDE-8AB4-6998B37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060-42EF-48FC-8014-225D269E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7A20-1D0C-40AE-B4B6-81E81F3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44D4-A93A-40CE-8357-D3A52789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EC58-0F24-4CCB-84DB-9513041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ADA-FB94-4BF2-B4B5-A7A3758E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34E-096B-4711-9773-C01B64AA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673-0FF6-4D55-AFB4-5A0E27E0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91B-748D-46C2-B980-AB83DA0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3C6-E1DD-40CD-A095-C6D86E5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16D-1FD6-43D1-A524-947E497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153-F330-465F-A618-D58B2A5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577-79E0-4FB7-8FEF-BED17748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667-7F0B-421D-B355-058D8F6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63E-294E-4AA3-862D-EEF08B4376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E3B5-8705-4400-81CC-A7F5423B5B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ct"/><Relationship Id="rId4" Type="http://schemas.openxmlformats.org/officeDocument/2006/relationships/image" Target="../media/image6.pct"/><Relationship Id="rId5" Type="http://schemas.openxmlformats.org/officeDocument/2006/relationships/image" Target="../media/image6.pct"/><Relationship Id="rId6" Type="http://schemas.openxmlformats.org/officeDocument/2006/relationships/image" Target="../media/image6.pct"/><Relationship Id="rId7" Type="http://schemas.openxmlformats.org/officeDocument/2006/relationships/image" Target="../media/image6.pct"/><Relationship Id="rId8" Type="http://schemas.openxmlformats.org/officeDocument/2006/relationships/image" Target="../media/image6.pct"/><Relationship Id="rId9" Type="http://schemas.openxmlformats.org/officeDocument/2006/relationships/image" Target="../media/image6.pct"/><Relationship Id="rId10" Type="http://schemas.openxmlformats.org/officeDocument/2006/relationships/image" Target="../media/image6.pct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24000" y="46479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3272040" cy="4108320"/>
          </a:xfrm>
          <a:prstGeom prst="rect">
            <a:avLst/>
          </a:prstGeom>
          <a:ln w="0">
            <a:noFill/>
          </a:ln>
        </p:spPr>
      </p:pic>
      <p:pic>
        <p:nvPicPr>
          <p:cNvPr id="99" name="Bild 7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00" name="Bild 8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1" name="Bild 9" descr=""/>
          <p:cNvPicPr/>
          <p:nvPr/>
        </p:nvPicPr>
        <p:blipFill>
          <a:blip r:embed="rId4"/>
          <a:stretch/>
        </p:blipFill>
        <p:spPr>
          <a:xfrm>
            <a:off x="533520" y="180324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02" name="Bild 10" descr=""/>
          <p:cNvPicPr/>
          <p:nvPr/>
        </p:nvPicPr>
        <p:blipFill>
          <a:blip r:embed="rId5"/>
          <a:stretch/>
        </p:blipFill>
        <p:spPr>
          <a:xfrm>
            <a:off x="132084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Bild 11" descr=""/>
          <p:cNvPicPr/>
          <p:nvPr/>
        </p:nvPicPr>
        <p:blipFill>
          <a:blip r:embed="rId6"/>
          <a:stretch/>
        </p:blipFill>
        <p:spPr>
          <a:xfrm>
            <a:off x="1981080" y="9144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4" name="Bild 12" descr=""/>
          <p:cNvPicPr/>
          <p:nvPr/>
        </p:nvPicPr>
        <p:blipFill>
          <a:blip r:embed="rId7"/>
          <a:stretch/>
        </p:blipFill>
        <p:spPr>
          <a:xfrm>
            <a:off x="228600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Bild 13" descr=""/>
          <p:cNvPicPr/>
          <p:nvPr/>
        </p:nvPicPr>
        <p:blipFill>
          <a:blip r:embed="rId8"/>
          <a:stretch/>
        </p:blipFill>
        <p:spPr>
          <a:xfrm>
            <a:off x="1066680" y="18032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6" name="Bild 14" descr=""/>
          <p:cNvPicPr/>
          <p:nvPr/>
        </p:nvPicPr>
        <p:blipFill>
          <a:blip r:embed="rId9"/>
          <a:stretch/>
        </p:blipFill>
        <p:spPr>
          <a:xfrm>
            <a:off x="1371600" y="22860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07" name="Bild 15" descr=""/>
          <p:cNvPicPr/>
          <p:nvPr/>
        </p:nvPicPr>
        <p:blipFill>
          <a:blip r:embed="rId10"/>
          <a:stretch/>
        </p:blipFill>
        <p:spPr>
          <a:xfrm>
            <a:off x="2057400" y="261612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chach 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yp der Erfahrung i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egebene Situationen oder selbst erzeug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mit oder ohne Lehr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as Spiel (z.B. Eröffnungen oder Endspiel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Wie repräsentativ ist die Trainingserfahrung in Bezug auf das Lernzi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wahl der zu lernenden Funkti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auswahl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rettauswer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svergleic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: Brett x Bret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ale Funktion V, angenäherte Funktion V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 des Lernprozesses: Annäherung von V‘ an das optimale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Schach spielen - Zielfunk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520" y="1197000"/>
            <a:ext cx="817884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ög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β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Su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korrekte und optimale Werte, aber praktisch nicht berechenbar, da zu auf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d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mlung von Regel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s Ne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lynome (z.B. linear, quadratisch) der Brettmerkm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d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rhanden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3/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drohte weiße/schwarze Steine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de-DE" sz="2000" spc="-1" strike="noStrike" baseline="-25000">
                <a:solidFill>
                  <a:srgbClr val="000000"/>
                </a:solidFill>
                <a:latin typeface="Arial"/>
              </a:rPr>
              <a:t>5/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iße/schwarze Offiz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5600" y="4552920"/>
                <a:ext cx="80946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Schach spielen - Lern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371600"/>
            <a:ext cx="817884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man trainier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  zu lernend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‘ bisher gelernte Fun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b, 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Trainingsbeisp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, Trainingsbeispiel festzule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V‘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achfolg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re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hode der kleinsten Quadrate (Least Mean Square,LM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der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fällige Auswahl einer Brettsituation b mit bekanntem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erberechnung für die Situ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error(b) :=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- V‘(b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Feature werden die Gewichte angepaß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=  w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rror(b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eine kleine Lernrate (kons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43000" y="5943600"/>
            <a:ext cx="30481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rtige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080" y="1052640"/>
            <a:ext cx="8687880" cy="1294920"/>
            <a:chOff x="-1080" y="1052640"/>
            <a:chExt cx="8687880" cy="1294920"/>
          </a:xfrm>
        </p:grpSpPr>
        <p:sp>
          <p:nvSpPr>
            <p:cNvPr id="148" name="AutoShape 4"/>
            <p:cNvSpPr/>
            <p:nvPr/>
          </p:nvSpPr>
          <p:spPr>
            <a:xfrm>
              <a:off x="3124080" y="1052640"/>
              <a:ext cx="3124080" cy="609480"/>
            </a:xfrm>
            <a:prstGeom prst="flowChartAlternateProcess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Art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erfa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5"/>
            <p:cNvSpPr/>
            <p:nvPr/>
          </p:nvSpPr>
          <p:spPr>
            <a:xfrm flipH="1">
              <a:off x="685800" y="1662120"/>
              <a:ext cx="31240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-1080" y="1813320"/>
              <a:ext cx="130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exper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 flipH="1">
              <a:off x="3123720" y="1662120"/>
              <a:ext cx="1219320" cy="60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3778200" y="181332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gainst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800600" y="1662120"/>
              <a:ext cx="3808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5181480" y="1662120"/>
              <a:ext cx="35053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5103360" y="181332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abl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rrect mo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120" y="2286000"/>
            <a:ext cx="7453800" cy="1295280"/>
            <a:chOff x="852120" y="2286000"/>
            <a:chExt cx="7453800" cy="1295280"/>
          </a:xfrm>
        </p:grpSpPr>
        <p:sp>
          <p:nvSpPr>
            <p:cNvPr id="157" name="AutoShape 13"/>
            <p:cNvSpPr/>
            <p:nvPr/>
          </p:nvSpPr>
          <p:spPr>
            <a:xfrm>
              <a:off x="1676520" y="2286000"/>
              <a:ext cx="3124080" cy="60948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3276720" y="2895480"/>
              <a:ext cx="114768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3827160" y="2985480"/>
              <a:ext cx="126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852120" y="2985480"/>
              <a:ext cx="127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oard </a:t>
              </a:r>
              <a:r>
                <a:rPr b="1" lang="de-DE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  mo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 flipH="1">
              <a:off x="1604520" y="289548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72000" y="2895480"/>
              <a:ext cx="3733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456840" y="3505320"/>
            <a:ext cx="8153640" cy="1218960"/>
            <a:chOff x="456840" y="3505320"/>
            <a:chExt cx="8153640" cy="1218960"/>
          </a:xfrm>
        </p:grpSpPr>
        <p:sp>
          <p:nvSpPr>
            <p:cNvPr id="164" name="AutoShape 20"/>
            <p:cNvSpPr/>
            <p:nvPr/>
          </p:nvSpPr>
          <p:spPr>
            <a:xfrm>
              <a:off x="2976480" y="3505320"/>
              <a:ext cx="3124440" cy="609480"/>
            </a:xfrm>
            <a:prstGeom prst="flowChartAlternateProcess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ie Reprä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er Zielfunk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 flipH="1">
              <a:off x="456840" y="4114800"/>
              <a:ext cx="3048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609480" y="4114080"/>
              <a:ext cx="11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olynom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 flipH="1">
              <a:off x="3276720" y="41148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3667680" y="4174560"/>
              <a:ext cx="128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 fun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of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4724280" y="411480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26"/>
            <p:cNvSpPr/>
            <p:nvPr/>
          </p:nvSpPr>
          <p:spPr>
            <a:xfrm>
              <a:off x="5181840" y="4188600"/>
              <a:ext cx="129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rtificial ne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019920" y="4114800"/>
              <a:ext cx="2590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1676520" y="4724280"/>
            <a:ext cx="5638680" cy="1219320"/>
            <a:chOff x="1676520" y="4724280"/>
            <a:chExt cx="5638680" cy="1219320"/>
          </a:xfrm>
        </p:grpSpPr>
        <p:sp>
          <p:nvSpPr>
            <p:cNvPr id="173" name="AutoShape 29"/>
            <p:cNvSpPr/>
            <p:nvPr/>
          </p:nvSpPr>
          <p:spPr>
            <a:xfrm>
              <a:off x="1676520" y="4724280"/>
              <a:ext cx="3124080" cy="609840"/>
            </a:xfrm>
            <a:prstGeom prst="flowChartAlternateProcess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stimme den Lern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H="1">
              <a:off x="2514600" y="533412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31"/>
            <p:cNvSpPr/>
            <p:nvPr/>
          </p:nvSpPr>
          <p:spPr>
            <a:xfrm>
              <a:off x="2820600" y="5409360"/>
              <a:ext cx="808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Grad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esc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2"/>
            <p:cNvSpPr/>
            <p:nvPr/>
          </p:nvSpPr>
          <p:spPr>
            <a:xfrm>
              <a:off x="3581280" y="533412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>
              <a:off x="4327200" y="5407920"/>
              <a:ext cx="116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n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gram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4"/>
            <p:cNvSpPr/>
            <p:nvPr/>
          </p:nvSpPr>
          <p:spPr>
            <a:xfrm>
              <a:off x="4648320" y="5334120"/>
              <a:ext cx="2666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167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182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193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09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640" y="80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lösung mit maschinellem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1970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Vorgehen ist sehr allgem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wird unter maschinellem Lernen nur der Teil „Lernalgorithmus“ verstanden, es geht aber um die ganz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wenn alle Teile zusammenpassen ist ein gutes Resultat zu erw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ses Modell ist modular und Verfahren auf den verschiedenen Ebenen können miteinander kombiniert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 nach zu lösendem Problem, kann es sein, daß es in mehrere Lernprobleme zerlegt werden muß, die durch unterschiedliche Ansätze gelös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19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21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30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37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46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rainingserfah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1197000"/>
            <a:ext cx="79740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tion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zeugung vo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 aus Datenbanken/-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zeugung durch da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abe durch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 Vorgabe von auß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wachtes Lernen (jeder Schritt wir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m Lehrer bewer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überwachtes Lernen (keine Vorga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forcement Learning (Bewertung über Erfolg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sserfolg einer Serie von Entscheid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gibt es Vorgab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ennte Lern- und Kann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tinuierliches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n mit Verg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n wird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jedem Schritt (Learning by Patte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igen Schritten (Learning b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einem kompletten Satz von Eingaben (Learning by Epo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56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267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283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fun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125000"/>
            <a:ext cx="6732720" cy="53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t „schwarze Kunst“, welche Kodierung für konkreten Fall am besten geeignet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ist wird hier das Problem als Problem der Mustererkennung aufgefasst,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rodukt in Ordnung oder ni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 Patient krank oder gesun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st eine handgeschriebene Ziffer eine 1,2,3 …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Mus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t: Generalisierung (Schätzen von Werten für bestimmte Beobachtungen bei vorgegebenen Mustern. Rekonstruktion einer Funk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ein vernünftiger Preis für dieses Haus / A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gesund/krank ist ein Pati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der klassischen Statistik sind das Regression, Inter- sowie Extrapolation. Für hochdimensionale Probleme tritt in der Praxis meist Extrapolation 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üte der Zielfunktion ist nicht unabhängig von der Wahl des Lernalgorith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293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295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04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11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20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1371600"/>
            <a:ext cx="67327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wei Lager: symbolisch und 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Regeln, Entscheidungsbäume, logische Formeln, Beispielfä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Erklärungsmög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e: Statistik, Polynome, neuronale Netze, „Genstring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teil: Leistungsfäh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räsentation schränkt Auswahl der Lernalgorithmen stark 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ben der Repräsentation ist auch die Kodierung der Eingangsdaten entsche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Kodierung des Alters von Patienten als Integer, als reelle Werte, als binäre Klassenvariabl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Alter 0-10“, „Alter 11-30“, „über 30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 Kodierungen können aus einfachen Lernproblemen schwierige mach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09480" y="763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6436800" y="1268280"/>
            <a:ext cx="2706840" cy="3455640"/>
            <a:chOff x="6436800" y="1268280"/>
            <a:chExt cx="2706840" cy="3455640"/>
          </a:xfrm>
        </p:grpSpPr>
        <p:sp>
          <p:nvSpPr>
            <p:cNvPr id="330" name="Rectangle 4"/>
            <p:cNvSpPr/>
            <p:nvPr/>
          </p:nvSpPr>
          <p:spPr>
            <a:xfrm>
              <a:off x="6820920" y="4521240"/>
              <a:ext cx="938520" cy="202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Fertiges Desig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5"/>
            <p:cNvGrpSpPr/>
            <p:nvPr/>
          </p:nvGrpSpPr>
          <p:grpSpPr>
            <a:xfrm>
              <a:off x="6436800" y="1268280"/>
              <a:ext cx="2706840" cy="861120"/>
              <a:chOff x="6436800" y="1268280"/>
              <a:chExt cx="2706840" cy="861120"/>
            </a:xfrm>
          </p:grpSpPr>
          <p:sp>
            <p:nvSpPr>
              <p:cNvPr id="332" name="AutoShape 6"/>
              <p:cNvSpPr/>
              <p:nvPr/>
            </p:nvSpPr>
            <p:spPr>
              <a:xfrm>
                <a:off x="7430760" y="1268280"/>
                <a:ext cx="961920" cy="405360"/>
              </a:xfrm>
              <a:prstGeom prst="flowChartAlternateProcess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raining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fahr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 flipH="1">
                <a:off x="6680160" y="1673640"/>
                <a:ext cx="96192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6436800" y="1833840"/>
                <a:ext cx="459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exper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 flipH="1">
                <a:off x="7430400" y="1673640"/>
                <a:ext cx="37548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7591680" y="1833840"/>
                <a:ext cx="389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am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gainst sel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7947360" y="1673640"/>
                <a:ext cx="11700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8064360" y="1673640"/>
                <a:ext cx="1079280" cy="45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8007480" y="1833840"/>
                <a:ext cx="4413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Table 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correct mov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14"/>
            <p:cNvGrpSpPr/>
            <p:nvPr/>
          </p:nvGrpSpPr>
          <p:grpSpPr>
            <a:xfrm>
              <a:off x="6699240" y="2088360"/>
              <a:ext cx="2327040" cy="861480"/>
              <a:chOff x="6699240" y="2088360"/>
              <a:chExt cx="2327040" cy="861480"/>
            </a:xfrm>
          </p:grpSpPr>
          <p:sp>
            <p:nvSpPr>
              <p:cNvPr id="341" name="AutoShape 15"/>
              <p:cNvSpPr/>
              <p:nvPr/>
            </p:nvSpPr>
            <p:spPr>
              <a:xfrm>
                <a:off x="6984720" y="2088360"/>
                <a:ext cx="961920" cy="40536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Zie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funk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7477560" y="2493720"/>
                <a:ext cx="3531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17"/>
              <p:cNvSpPr/>
              <p:nvPr/>
            </p:nvSpPr>
            <p:spPr>
              <a:xfrm>
                <a:off x="7614720" y="2572920"/>
                <a:ext cx="45036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val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18"/>
              <p:cNvSpPr/>
              <p:nvPr/>
            </p:nvSpPr>
            <p:spPr>
              <a:xfrm>
                <a:off x="6699240" y="2572920"/>
                <a:ext cx="45180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oard 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  mov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 flipH="1">
                <a:off x="6962400" y="2493720"/>
                <a:ext cx="351720" cy="45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7876440" y="2493720"/>
                <a:ext cx="114984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21"/>
            <p:cNvGrpSpPr/>
            <p:nvPr/>
          </p:nvGrpSpPr>
          <p:grpSpPr>
            <a:xfrm>
              <a:off x="6609240" y="2899440"/>
              <a:ext cx="2511000" cy="810720"/>
              <a:chOff x="6609240" y="2899440"/>
              <a:chExt cx="2511000" cy="810720"/>
            </a:xfrm>
          </p:grpSpPr>
          <p:sp>
            <p:nvSpPr>
              <p:cNvPr id="348" name="AutoShape 22"/>
              <p:cNvSpPr/>
              <p:nvPr/>
            </p:nvSpPr>
            <p:spPr>
              <a:xfrm>
                <a:off x="7385400" y="2899440"/>
                <a:ext cx="961920" cy="405360"/>
              </a:xfrm>
              <a:prstGeom prst="flowChartAlternateProcess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präse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23"/>
              <p:cNvSpPr/>
              <p:nvPr/>
            </p:nvSpPr>
            <p:spPr>
              <a:xfrm flipH="1">
                <a:off x="6609240" y="3304800"/>
                <a:ext cx="938520" cy="35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24"/>
              <p:cNvSpPr/>
              <p:nvPr/>
            </p:nvSpPr>
            <p:spPr>
              <a:xfrm>
                <a:off x="6656760" y="3302280"/>
                <a:ext cx="355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olynom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7477200" y="3304800"/>
                <a:ext cx="140760" cy="40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26"/>
              <p:cNvSpPr/>
              <p:nvPr/>
            </p:nvSpPr>
            <p:spPr>
              <a:xfrm>
                <a:off x="7567920" y="3404520"/>
                <a:ext cx="453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 fun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f six feature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7923600" y="3304800"/>
                <a:ext cx="30492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28"/>
              <p:cNvSpPr/>
              <p:nvPr/>
            </p:nvSpPr>
            <p:spPr>
              <a:xfrm>
                <a:off x="8032680" y="3414240"/>
                <a:ext cx="4579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Artificial neur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>
                <a:off x="8322480" y="3304800"/>
                <a:ext cx="7977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30"/>
            <p:cNvGrpSpPr/>
            <p:nvPr/>
          </p:nvGrpSpPr>
          <p:grpSpPr>
            <a:xfrm>
              <a:off x="6985080" y="3710520"/>
              <a:ext cx="1736280" cy="810360"/>
              <a:chOff x="6985080" y="3710520"/>
              <a:chExt cx="1736280" cy="810360"/>
            </a:xfrm>
          </p:grpSpPr>
          <p:sp>
            <p:nvSpPr>
              <p:cNvPr id="357" name="AutoShape 31"/>
              <p:cNvSpPr/>
              <p:nvPr/>
            </p:nvSpPr>
            <p:spPr>
              <a:xfrm>
                <a:off x="6985080" y="3710520"/>
                <a:ext cx="961920" cy="405360"/>
              </a:xfrm>
              <a:prstGeom prst="flowChartAlternateProcess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Lern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algorithm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7242480" y="4115880"/>
                <a:ext cx="140760" cy="40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33"/>
              <p:cNvSpPr/>
              <p:nvPr/>
            </p:nvSpPr>
            <p:spPr>
              <a:xfrm>
                <a:off x="7291440" y="4225320"/>
                <a:ext cx="336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Gra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desc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34"/>
              <p:cNvSpPr/>
              <p:nvPr/>
            </p:nvSpPr>
            <p:spPr>
              <a:xfrm>
                <a:off x="7571520" y="4115880"/>
                <a:ext cx="30492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5"/>
              <p:cNvSpPr/>
              <p:nvPr/>
            </p:nvSpPr>
            <p:spPr>
              <a:xfrm>
                <a:off x="7766640" y="4225320"/>
                <a:ext cx="424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Line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programm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36"/>
              <p:cNvSpPr/>
              <p:nvPr/>
            </p:nvSpPr>
            <p:spPr>
              <a:xfrm>
                <a:off x="7900200" y="4115880"/>
                <a:ext cx="821160" cy="40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1052640"/>
            <a:ext cx="694836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gentlicher Kern des Maschinellen Ler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Verfahren aus verschiedenen Bereichen (Statistik, Logik, Neuro-wissenschaften, Optimieru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ätz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Schließ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-Base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MS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und evolutionär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-Vektor-Masch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organisierende K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erausforderungen beim Maschinellen Lern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Verfahren eignen sich wann, um Funktionen anzunäh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en beim Design einer Lösu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Beispi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lexität de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wird die Lösung des Problems durch Umwelt beeinflus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rausch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ere Datenqu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sind die theoretischen Grenzen der Lernbarke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ann Vorwissen genutz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lche Anregungen können wir aus der Natur abschau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 können Systeme selbstständig Repräsentationen f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Definitionen und Abgrenzung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371240"/>
            <a:ext cx="81788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ntrale Fähigkeit von „intelligenten Systemen“ in Natur und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gerichtete Veränderung von Wissen und/oder Verhaltensweisen durch Erfa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e Formen des Lern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orisches Lernen, Regellernen, Sprachlernen, Lernen mit Lehrern, Lernen in der Entwicklu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s ist kein Ler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aches Speichern von Daten (keine Verände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stes Programmieren von Lösungen (keine Erfahr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von Beispi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371600"/>
            <a:ext cx="817884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einer unbekannten Funkti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 Gute Approximation vo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ordnung: überwachtes Lernen/Mustererk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von Krankh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Patientendaten (Geschlecht, Alter, Erkrankung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= Krankheit (oder vorgeschlagene Therap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sikobewer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 = Eigenschaften von Kunden (Demographie, Unfälle, Vorgeschichte,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Risikoeinschätz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-of-speech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843280" y="5084640"/>
            <a:ext cx="167616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1623960" y="53132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1623960" y="56181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1623960" y="5923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1623960" y="62276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236240" y="5403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1236240" y="57085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1236240" y="60134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19440" y="577044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863320" y="555624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266480" y="508464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62160" y="1295280"/>
            <a:ext cx="1676520" cy="1447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bekan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1843200" y="15238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1843200" y="1828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1843200" y="2133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1843200" y="2438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4554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455480" y="16146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455480" y="19191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1455480" y="22240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4738680" y="1981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6082200" y="1766880"/>
            <a:ext cx="192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838080" y="2819520"/>
          <a:ext cx="7277400" cy="26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27740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in Lern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5300640"/>
            <a:ext cx="817884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 schreiben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 für die Menge aller Funktionen, die Elemente von A auf Elemente von B abbi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finitionsbereich von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 ist X=(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, d.h.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spiel: X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Y = {0,1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3503520" y="3059280"/>
          <a:ext cx="5631120" cy="394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3059280"/>
                    <a:ext cx="563112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8000" y="81000"/>
            <a:ext cx="804528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ypothesen-Raum (unbeschränkter Fall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viel mögliche Funktion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Hypothesen) gibt 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|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|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65536 möglich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iver Ansatz: Streiche mit jedem Beispiel alle nicht passend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zu müssen alle möglichen Eingaben betrach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7 Beispielen bleiben noch 2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512 Hypothesen fü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von 655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Vorhersage fü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bekannt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echtes (verallge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erndes) Ler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her: Look-Up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griffs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: concept) bezeichnet eine Menge von Entitäten mit gemeinsamen Eigenscha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m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griffsler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concept learning) enthält der Wertebereich der zu lernenden Funktion f nur die Werte 1 (wahr, gehört zum Begriff) und 0 (falsch, gehört nicht zum Begrif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371840"/>
          <a:ext cx="861048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371840"/>
                    <a:ext cx="861048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n eines Begriffs, Beispiel EnjoyS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Ähnlich zur Definition von Datentypen, oft Aufzählungs-Daten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: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6 Attribu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Rainy, Sunny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Warm, Col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rmal, High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None, Mild, Strong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Same, Chang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iel: Finde Beschreibung des Begriffss, generalisiere für unbekannt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Repräsentierung der Hypothe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iele Möglich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schlag: Jede Hypothese ist eine Konjunktion von Attribu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jedes Attribut werden Constraints/Bedingungen ange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e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zifische Werte: z.B. Water =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Wert ist egal : z.B. Water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der: gar kein Wert erlaubt : z.B. Water = 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spiel-Hypothese fü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Temp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umidity  W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Wate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Stro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?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diese Hypothese konsistent mit den Trainingsbeispiel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Hypothesen aus, die konsistent mit den Beispielen s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ist die Menge aller möglichen Hypothesen H 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&lt;Ø,Ø,Ø,Ø,Ø&gt; = &lt;?,?,?,?,Ø&gt;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ald ein Ø vorkommt entspricht die Hypothese der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zahl der möglichen Hypothesen: (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) +1 = 973 =|H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: |H|=973 &lt; |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Lernen des Konzepts </a:t>
            </a:r>
            <a:r>
              <a:rPr b="0" i="1" lang="de-DE" sz="3200" spc="-1" strike="noStrike">
                <a:solidFill>
                  <a:srgbClr val="000000"/>
                </a:solidFill>
                <a:latin typeface="Arial Black"/>
              </a:rPr>
              <a:t>EnjoySpor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9072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geb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ge D von Trainingsbeispielen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eweils Tage mit den Attributen Sky, AirTemp, Humidity, Wind, Water, Forecast beschreiben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 = {{Rainy, Sunny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Warm, Cold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rmal, High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None, Mild, Strong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Cool, Warm}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Same, Change}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, ob ein Tag mit solchen Attributen zu dem Zielkonzept gehöre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gative Beispie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ür Zielfunktion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0 oder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&lt;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de-DE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&gt;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so das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für alle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ls Konjunktion von Attributen (z.B. &lt;?, Cold, High, ?, ?, ?&gt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njoySport: X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{0,1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lche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nennt ma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Trainingsmenge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ningsannah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fehlen keine W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 Rauschen in den Daten (widersprüchliche D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e Hypothese, die konsistent mit D is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näh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80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rundidee des induktiven Lerne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 vs. De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duktion: aus gegebenen Fakten neue Fakten ableiten (Bewe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, B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, Folgerung: A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Allgemeinen zum Speziell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on: aus gegebenen Fakten neue Fakten mutmaßen (Hypo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ben: Fliegt(Amsel), Fliegt(Storch), Folgerung: Fliegt(Vog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m Speziellen zum Allgemeine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ee des induktiven Lerne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 eine Funktion aus Beispi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Hypothese, die für eine hinreichend große Beispielmenge die Zielfunktion gut annähert, wird die Funktion auch gut für unbekannte Beispiele annäh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zunächst: Wie kann ein Lernverfahren konkret auss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254160" y="1066680"/>
            <a:ext cx="3276360" cy="3810240"/>
            <a:chOff x="254160" y="1066680"/>
            <a:chExt cx="3276360" cy="3810240"/>
          </a:xfrm>
        </p:grpSpPr>
        <p:sp>
          <p:nvSpPr>
            <p:cNvPr id="412" name="Rectangle 3"/>
            <p:cNvSpPr/>
            <p:nvPr/>
          </p:nvSpPr>
          <p:spPr>
            <a:xfrm>
              <a:off x="1169640" y="1066680"/>
              <a:ext cx="145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stanzen </a:t>
              </a:r>
              <a:r>
                <a:rPr b="1" i="1" lang="de-DE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4"/>
            <p:cNvSpPr/>
            <p:nvPr/>
          </p:nvSpPr>
          <p:spPr>
            <a:xfrm>
              <a:off x="314964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5"/>
            <p:cNvSpPr/>
            <p:nvPr/>
          </p:nvSpPr>
          <p:spPr>
            <a:xfrm>
              <a:off x="1854360" y="1828800"/>
              <a:ext cx="152280" cy="152280"/>
            </a:xfrm>
            <a:prstGeom prst="ellipse">
              <a:avLst/>
            </a:prstGeom>
            <a:solidFill>
              <a:srgbClr val="f35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6"/>
            <p:cNvSpPr/>
            <p:nvPr/>
          </p:nvSpPr>
          <p:spPr>
            <a:xfrm>
              <a:off x="558720" y="182880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558720" y="2971800"/>
              <a:ext cx="152640" cy="152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558720" y="42670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397160" y="2590920"/>
              <a:ext cx="152280" cy="152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320840" y="3886200"/>
              <a:ext cx="152280" cy="152280"/>
            </a:xfrm>
            <a:prstGeom prst="ellips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701720" y="3124080"/>
              <a:ext cx="15264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463840" y="31240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2158920" y="3581280"/>
              <a:ext cx="152640" cy="1526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768760" y="3581280"/>
              <a:ext cx="152280" cy="1526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2158920" y="4267080"/>
              <a:ext cx="152640" cy="15264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2541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7"/>
          <p:cNvGrpSpPr/>
          <p:nvPr/>
        </p:nvGrpSpPr>
        <p:grpSpPr>
          <a:xfrm>
            <a:off x="4140360" y="1052640"/>
            <a:ext cx="3276360" cy="3824280"/>
            <a:chOff x="4140360" y="1052640"/>
            <a:chExt cx="3276360" cy="3824280"/>
          </a:xfrm>
        </p:grpSpPr>
        <p:sp>
          <p:nvSpPr>
            <p:cNvPr id="427" name="Rectangle 18"/>
            <p:cNvSpPr/>
            <p:nvPr/>
          </p:nvSpPr>
          <p:spPr>
            <a:xfrm>
              <a:off x="4942080" y="105264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Hypothese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4140360" y="1447920"/>
              <a:ext cx="327636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>
              <a:off x="4902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21"/>
            <p:cNvSpPr/>
            <p:nvPr/>
          </p:nvSpPr>
          <p:spPr>
            <a:xfrm>
              <a:off x="6045120" y="1752480"/>
              <a:ext cx="15264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22"/>
            <p:cNvSpPr/>
            <p:nvPr/>
          </p:nvSpPr>
          <p:spPr>
            <a:xfrm>
              <a:off x="7112160" y="1752480"/>
              <a:ext cx="152280" cy="152640"/>
            </a:xfrm>
            <a:prstGeom prst="ellips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23"/>
            <p:cNvSpPr/>
            <p:nvPr/>
          </p:nvSpPr>
          <p:spPr>
            <a:xfrm>
              <a:off x="5435640" y="2362320"/>
              <a:ext cx="15228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24"/>
            <p:cNvSpPr/>
            <p:nvPr/>
          </p:nvSpPr>
          <p:spPr>
            <a:xfrm>
              <a:off x="6502320" y="2362320"/>
              <a:ext cx="152640" cy="15228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5"/>
            <p:cNvSpPr/>
            <p:nvPr/>
          </p:nvSpPr>
          <p:spPr>
            <a:xfrm>
              <a:off x="4902120" y="29718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969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7112160" y="297180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4216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5359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30"/>
            <p:cNvSpPr/>
            <p:nvPr/>
          </p:nvSpPr>
          <p:spPr>
            <a:xfrm>
              <a:off x="6502320" y="3657600"/>
              <a:ext cx="152640" cy="1522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31"/>
            <p:cNvSpPr/>
            <p:nvPr/>
          </p:nvSpPr>
          <p:spPr>
            <a:xfrm>
              <a:off x="4826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Oval 32"/>
            <p:cNvSpPr/>
            <p:nvPr/>
          </p:nvSpPr>
          <p:spPr>
            <a:xfrm>
              <a:off x="5969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33"/>
            <p:cNvSpPr/>
            <p:nvPr/>
          </p:nvSpPr>
          <p:spPr>
            <a:xfrm>
              <a:off x="7112160" y="43434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34"/>
          <p:cNvGrpSpPr/>
          <p:nvPr/>
        </p:nvGrpSpPr>
        <p:grpSpPr>
          <a:xfrm>
            <a:off x="4292640" y="1447920"/>
            <a:ext cx="4633920" cy="3430440"/>
            <a:chOff x="4292640" y="1447920"/>
            <a:chExt cx="4633920" cy="3430440"/>
          </a:xfrm>
        </p:grpSpPr>
        <p:sp>
          <p:nvSpPr>
            <p:cNvPr id="444" name="Rectangle 35"/>
            <p:cNvSpPr/>
            <p:nvPr/>
          </p:nvSpPr>
          <p:spPr>
            <a:xfrm>
              <a:off x="7615080" y="152388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Spezifis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36"/>
            <p:cNvSpPr/>
            <p:nvPr/>
          </p:nvSpPr>
          <p:spPr>
            <a:xfrm>
              <a:off x="7710480" y="451008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37"/>
            <p:cNvGrpSpPr/>
            <p:nvPr/>
          </p:nvGrpSpPr>
          <p:grpSpPr>
            <a:xfrm>
              <a:off x="4292640" y="1828800"/>
              <a:ext cx="2895120" cy="2514240"/>
              <a:chOff x="4292640" y="1828800"/>
              <a:chExt cx="2895120" cy="2514240"/>
            </a:xfrm>
          </p:grpSpPr>
          <p:sp>
            <p:nvSpPr>
              <p:cNvPr id="447" name="Line 38"/>
              <p:cNvSpPr/>
              <p:nvPr/>
            </p:nvSpPr>
            <p:spPr>
              <a:xfrm flipH="1" flipV="1">
                <a:off x="5587920" y="2438280"/>
                <a:ext cx="4572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39"/>
              <p:cNvGrpSpPr/>
              <p:nvPr/>
            </p:nvGrpSpPr>
            <p:grpSpPr>
              <a:xfrm>
                <a:off x="4292640" y="1828800"/>
                <a:ext cx="2895120" cy="2514240"/>
                <a:chOff x="4292640" y="1828800"/>
                <a:chExt cx="2895120" cy="2514240"/>
              </a:xfrm>
            </p:grpSpPr>
            <p:sp>
              <p:nvSpPr>
                <p:cNvPr id="449" name="Line 40"/>
                <p:cNvSpPr/>
                <p:nvPr/>
              </p:nvSpPr>
              <p:spPr>
                <a:xfrm flipH="1" flipV="1">
                  <a:off x="5054760" y="182880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41"/>
                <p:cNvSpPr/>
                <p:nvPr/>
              </p:nvSpPr>
              <p:spPr>
                <a:xfrm flipV="1">
                  <a:off x="5511960" y="182880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 flipH="1" flipV="1">
                  <a:off x="6197760" y="1828800"/>
                  <a:ext cx="38088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Line 43"/>
                <p:cNvSpPr/>
                <p:nvPr/>
              </p:nvSpPr>
              <p:spPr>
                <a:xfrm flipV="1">
                  <a:off x="6578640" y="1828800"/>
                  <a:ext cx="53352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Line 44"/>
                <p:cNvSpPr/>
                <p:nvPr/>
              </p:nvSpPr>
              <p:spPr>
                <a:xfrm flipV="1">
                  <a:off x="497844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45"/>
                <p:cNvSpPr/>
                <p:nvPr/>
              </p:nvSpPr>
              <p:spPr>
                <a:xfrm flipV="1">
                  <a:off x="6045120" y="2438280"/>
                  <a:ext cx="45720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46"/>
                <p:cNvSpPr/>
                <p:nvPr/>
              </p:nvSpPr>
              <p:spPr>
                <a:xfrm flipH="1" flipV="1">
                  <a:off x="6654600" y="2438280"/>
                  <a:ext cx="533160" cy="53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47"/>
                <p:cNvSpPr/>
                <p:nvPr/>
              </p:nvSpPr>
              <p:spPr>
                <a:xfrm flipV="1">
                  <a:off x="4292640" y="3047760"/>
                  <a:ext cx="60948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48"/>
                <p:cNvSpPr/>
                <p:nvPr/>
              </p:nvSpPr>
              <p:spPr>
                <a:xfrm flipH="1" flipV="1">
                  <a:off x="6121440" y="30477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49"/>
                <p:cNvSpPr/>
                <p:nvPr/>
              </p:nvSpPr>
              <p:spPr>
                <a:xfrm flipV="1">
                  <a:off x="6578640" y="3047760"/>
                  <a:ext cx="53352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50"/>
                <p:cNvSpPr/>
                <p:nvPr/>
              </p:nvSpPr>
              <p:spPr>
                <a:xfrm flipH="1" flipV="1">
                  <a:off x="4368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51"/>
                <p:cNvSpPr/>
                <p:nvPr/>
              </p:nvSpPr>
              <p:spPr>
                <a:xfrm flipV="1">
                  <a:off x="6045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Line 52"/>
                <p:cNvSpPr/>
                <p:nvPr/>
              </p:nvSpPr>
              <p:spPr>
                <a:xfrm flipH="1" flipV="1">
                  <a:off x="6654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53"/>
                <p:cNvSpPr/>
                <p:nvPr/>
              </p:nvSpPr>
              <p:spPr>
                <a:xfrm flipV="1">
                  <a:off x="4902120" y="3733560"/>
                  <a:ext cx="45720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54"/>
                <p:cNvSpPr/>
                <p:nvPr/>
              </p:nvSpPr>
              <p:spPr>
                <a:xfrm flipH="1" flipV="1">
                  <a:off x="5511600" y="3733560"/>
                  <a:ext cx="533160" cy="609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4" name="Line 55"/>
            <p:cNvSpPr/>
            <p:nvPr/>
          </p:nvSpPr>
          <p:spPr>
            <a:xfrm>
              <a:off x="7645320" y="14479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56"/>
          <p:cNvGrpSpPr/>
          <p:nvPr/>
        </p:nvGrpSpPr>
        <p:grpSpPr>
          <a:xfrm>
            <a:off x="0" y="4875120"/>
            <a:ext cx="7620120" cy="820800"/>
            <a:chOff x="0" y="4875120"/>
            <a:chExt cx="7620120" cy="820800"/>
          </a:xfrm>
        </p:grpSpPr>
        <p:sp>
          <p:nvSpPr>
            <p:cNvPr id="466" name="Rectangle 57"/>
            <p:cNvSpPr/>
            <p:nvPr/>
          </p:nvSpPr>
          <p:spPr>
            <a:xfrm>
              <a:off x="0" y="4903920"/>
              <a:ext cx="4114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Strong, Cool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Warm, High, Light, Warm, S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58"/>
            <p:cNvSpPr/>
            <p:nvPr/>
          </p:nvSpPr>
          <p:spPr>
            <a:xfrm>
              <a:off x="4343400" y="4875120"/>
              <a:ext cx="3276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Strong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?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= &lt;Sunny, ?, ?, ?, Cool, ?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59"/>
          <p:cNvGrpSpPr/>
          <p:nvPr/>
        </p:nvGrpSpPr>
        <p:grpSpPr>
          <a:xfrm>
            <a:off x="1244520" y="2740680"/>
            <a:ext cx="4311000" cy="764640"/>
            <a:chOff x="1244520" y="2740680"/>
            <a:chExt cx="4311000" cy="764640"/>
          </a:xfrm>
        </p:grpSpPr>
        <p:sp>
          <p:nvSpPr>
            <p:cNvPr id="469" name="Oval 60"/>
            <p:cNvSpPr/>
            <p:nvPr/>
          </p:nvSpPr>
          <p:spPr>
            <a:xfrm>
              <a:off x="1244520" y="29718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0" name="AutoShape 61"/>
            <p:cNvCxnSpPr>
              <a:stCxn id="469" idx="7"/>
              <a:endCxn id="434" idx="1"/>
            </p:cNvCxnSpPr>
            <p:nvPr/>
          </p:nvCxnSpPr>
          <p:spPr>
            <a:xfrm flipH="1" flipV="1" rot="5400000">
              <a:off x="3843000" y="1955160"/>
              <a:ext cx="43560" cy="2120040"/>
            </a:xfrm>
            <a:prstGeom prst="curvedConnector5">
              <a:avLst>
                <a:gd name="adj1" fmla="val 685000"/>
                <a:gd name="adj2" fmla="val 50000"/>
                <a:gd name="adj3" fmla="val 685000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1" name="Rectangle 62"/>
            <p:cNvSpPr/>
            <p:nvPr/>
          </p:nvSpPr>
          <p:spPr>
            <a:xfrm>
              <a:off x="1531440" y="304632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3"/>
            <p:cNvSpPr/>
            <p:nvPr/>
          </p:nvSpPr>
          <p:spPr>
            <a:xfrm>
              <a:off x="516168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64"/>
          <p:cNvGrpSpPr/>
          <p:nvPr/>
        </p:nvGrpSpPr>
        <p:grpSpPr>
          <a:xfrm>
            <a:off x="1092240" y="2131920"/>
            <a:ext cx="5529960" cy="1602000"/>
            <a:chOff x="1092240" y="2131920"/>
            <a:chExt cx="5529960" cy="1602000"/>
          </a:xfrm>
        </p:grpSpPr>
        <p:sp>
          <p:nvSpPr>
            <p:cNvPr id="474" name="Oval 65"/>
            <p:cNvSpPr/>
            <p:nvPr/>
          </p:nvSpPr>
          <p:spPr>
            <a:xfrm>
              <a:off x="1092240" y="2362320"/>
              <a:ext cx="914400" cy="137160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AutoShape 66"/>
            <p:cNvCxnSpPr>
              <a:stCxn id="474" idx="7"/>
              <a:endCxn id="435" idx="1"/>
            </p:cNvCxnSpPr>
            <p:nvPr/>
          </p:nvCxnSpPr>
          <p:spPr>
            <a:xfrm flipH="1" rot="16200000">
              <a:off x="3710160" y="712440"/>
              <a:ext cx="443880" cy="4118760"/>
            </a:xfrm>
            <a:prstGeom prst="curvedConnector5">
              <a:avLst>
                <a:gd name="adj1" fmla="val -94237"/>
                <a:gd name="adj2" fmla="val 50000"/>
                <a:gd name="adj3" fmla="val -94237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76" name="Rectangle 67"/>
            <p:cNvSpPr/>
            <p:nvPr/>
          </p:nvSpPr>
          <p:spPr>
            <a:xfrm>
              <a:off x="6228360" y="28177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68"/>
          <p:cNvGrpSpPr/>
          <p:nvPr/>
        </p:nvGrpSpPr>
        <p:grpSpPr>
          <a:xfrm>
            <a:off x="939960" y="1600200"/>
            <a:ext cx="5072760" cy="3277080"/>
            <a:chOff x="939960" y="1600200"/>
            <a:chExt cx="5072760" cy="3277080"/>
          </a:xfrm>
        </p:grpSpPr>
        <p:sp>
          <p:nvSpPr>
            <p:cNvPr id="478" name="Rectangle 69"/>
            <p:cNvSpPr/>
            <p:nvPr/>
          </p:nvSpPr>
          <p:spPr>
            <a:xfrm>
              <a:off x="2674440" y="3579840"/>
              <a:ext cx="3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70"/>
            <p:cNvSpPr/>
            <p:nvPr/>
          </p:nvSpPr>
          <p:spPr>
            <a:xfrm>
              <a:off x="939960" y="1600200"/>
              <a:ext cx="2286000" cy="3048120"/>
            </a:xfrm>
            <a:prstGeom prst="ellipse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71"/>
            <p:cNvCxnSpPr>
              <a:stCxn id="479" idx="5"/>
              <a:endCxn id="438" idx="4"/>
            </p:cNvCxnSpPr>
            <p:nvPr/>
          </p:nvCxnSpPr>
          <p:spPr>
            <a:xfrm flipH="1" flipV="1" rot="5400000">
              <a:off x="3959640" y="2739240"/>
              <a:ext cx="405720" cy="2545560"/>
            </a:xfrm>
            <a:prstGeom prst="curvedConnector5">
              <a:avLst>
                <a:gd name="adj1" fmla="val -163499"/>
                <a:gd name="adj2" fmla="val 50000"/>
                <a:gd name="adj3" fmla="val -163499"/>
              </a:avLst>
            </a:prstGeom>
            <a:ln w="9360">
              <a:solidFill>
                <a:srgbClr val="000000"/>
              </a:solidFill>
              <a:miter/>
              <a:headEnd len="lg" type="triangle" w="med"/>
            </a:ln>
          </p:spPr>
        </p:cxnSp>
        <p:sp>
          <p:nvSpPr>
            <p:cNvPr id="481" name="Rectangle 72"/>
            <p:cNvSpPr/>
            <p:nvPr/>
          </p:nvSpPr>
          <p:spPr>
            <a:xfrm>
              <a:off x="5618880" y="34416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stanzen- und Hypothesenra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83" name="Group 74"/>
          <p:cNvGrpSpPr/>
          <p:nvPr/>
        </p:nvGrpSpPr>
        <p:grpSpPr>
          <a:xfrm>
            <a:off x="890280" y="1052640"/>
            <a:ext cx="7735680" cy="5662440"/>
            <a:chOff x="890280" y="1052640"/>
            <a:chExt cx="7735680" cy="5662440"/>
          </a:xfrm>
        </p:grpSpPr>
        <p:grpSp>
          <p:nvGrpSpPr>
            <p:cNvPr id="484" name="Group 75"/>
            <p:cNvGrpSpPr/>
            <p:nvPr/>
          </p:nvGrpSpPr>
          <p:grpSpPr>
            <a:xfrm>
              <a:off x="4343400" y="1052640"/>
              <a:ext cx="4282560" cy="5376600"/>
              <a:chOff x="4343400" y="1052640"/>
              <a:chExt cx="4282560" cy="5376600"/>
            </a:xfrm>
          </p:grpSpPr>
          <p:sp>
            <p:nvSpPr>
              <p:cNvPr id="485" name="Rectangle 76"/>
              <p:cNvSpPr/>
              <p:nvPr/>
            </p:nvSpPr>
            <p:spPr>
              <a:xfrm>
                <a:off x="4343400" y="5805360"/>
                <a:ext cx="3828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 ,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7"/>
              <p:cNvSpPr/>
              <p:nvPr/>
            </p:nvSpPr>
            <p:spPr>
              <a:xfrm flipV="1">
                <a:off x="5435640" y="3047760"/>
                <a:ext cx="53352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78"/>
              <p:cNvSpPr/>
              <p:nvPr/>
            </p:nvSpPr>
            <p:spPr>
              <a:xfrm>
                <a:off x="6525000" y="1052640"/>
                <a:ext cx="21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800" spc="-1" strike="noStrike">
                    <a:solidFill>
                      <a:srgbClr val="000000"/>
                    </a:solidFill>
                    <a:latin typeface="Arial"/>
                  </a:rPr>
                  <a:t>, partiell geord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9"/>
              <p:cNvSpPr/>
              <p:nvPr/>
            </p:nvSpPr>
            <p:spPr>
              <a:xfrm>
                <a:off x="4356000" y="6093000"/>
                <a:ext cx="3829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Aber weder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 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noch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3 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 h</a:t>
                </a:r>
                <a:r>
                  <a:rPr b="1" i="1" lang="de-DE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Rectangle 80"/>
            <p:cNvSpPr/>
            <p:nvPr/>
          </p:nvSpPr>
          <p:spPr>
            <a:xfrm>
              <a:off x="890280" y="6165720"/>
              <a:ext cx="31204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de-DE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st partielle Ordnung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ransitiv, reflexiv, antisymmetr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81"/>
          <p:cNvGrpSpPr/>
          <p:nvPr/>
        </p:nvGrpSpPr>
        <p:grpSpPr>
          <a:xfrm>
            <a:off x="498600" y="3068280"/>
            <a:ext cx="4885920" cy="3073320"/>
            <a:chOff x="498600" y="3068280"/>
            <a:chExt cx="4885920" cy="3073320"/>
          </a:xfrm>
        </p:grpSpPr>
        <p:sp>
          <p:nvSpPr>
            <p:cNvPr id="491" name="Line 82"/>
            <p:cNvSpPr/>
            <p:nvPr/>
          </p:nvSpPr>
          <p:spPr>
            <a:xfrm flipH="1" flipV="1">
              <a:off x="5003280" y="3068280"/>
              <a:ext cx="38124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3"/>
            <p:cNvSpPr/>
            <p:nvPr/>
          </p:nvSpPr>
          <p:spPr>
            <a:xfrm>
              <a:off x="498600" y="5589720"/>
              <a:ext cx="3073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-Or-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84"/>
            <p:cNvSpPr/>
            <p:nvPr/>
          </p:nvSpPr>
          <p:spPr>
            <a:xfrm>
              <a:off x="923400" y="5805360"/>
              <a:ext cx="2223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ore-General-Th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Find-S Algorithm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Initialisiere h als spezifischste mögliche Hypothese aus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 unserem Fall ist das die Hypothese &lt;Ø,Ø,Ø,Ø,Ø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positive Instanzen x aus D, d.h. 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ttribut mit Wert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ird durch x erfü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AN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keine Ä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SONS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ersetze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urch den nä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ren Wert, der durch x erfül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 Ausgabe von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gative Beispiele werden nicht betrach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ahren sucht “minimale” bzw. spezifischste Hypothese aus H, die alle positiven Beispiele umfaß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eine Lösung gibt, dann wird sie auch gef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, wenn es keine Lösung gib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Gesichtserkenn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kennung anhand von Gesicht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chl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alysed Face (22kB)"/>
          <p:cNvPicPr/>
          <p:nvPr/>
        </p:nvPicPr>
        <p:blipFill>
          <a:blip r:embed="rId1"/>
          <a:stretch/>
        </p:blipFill>
        <p:spPr>
          <a:xfrm>
            <a:off x="3132000" y="1916280"/>
            <a:ext cx="5648400" cy="24969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32720" y="184464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Wiskott et 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Wahlster_aergerlich1"/>
          <p:cNvPicPr/>
          <p:nvPr/>
        </p:nvPicPr>
        <p:blipFill>
          <a:blip r:embed="rId2"/>
          <a:stretch/>
        </p:blipFill>
        <p:spPr>
          <a:xfrm>
            <a:off x="468360" y="4724280"/>
            <a:ext cx="2590920" cy="20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Wahlster_neutral1"/>
          <p:cNvPicPr/>
          <p:nvPr/>
        </p:nvPicPr>
        <p:blipFill>
          <a:blip r:embed="rId3"/>
          <a:stretch/>
        </p:blipFill>
        <p:spPr>
          <a:xfrm>
            <a:off x="3132000" y="4724280"/>
            <a:ext cx="2592360" cy="2040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940360" y="6381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sp.: SmartKom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59280" y="1501920"/>
            <a:ext cx="4038480" cy="2444400"/>
            <a:chOff x="4859280" y="1501920"/>
            <a:chExt cx="4038480" cy="2444400"/>
          </a:xfrm>
        </p:grpSpPr>
        <p:sp>
          <p:nvSpPr>
            <p:cNvPr id="497" name="Rectangle 3"/>
            <p:cNvSpPr/>
            <p:nvPr/>
          </p:nvSpPr>
          <p:spPr>
            <a:xfrm>
              <a:off x="4859280" y="364500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Ø, Ø, Ø, Ø, Ø, Ø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4"/>
            <p:cNvSpPr/>
            <p:nvPr/>
          </p:nvSpPr>
          <p:spPr>
            <a:xfrm>
              <a:off x="6136920" y="150192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5198760" y="1639440"/>
            <a:ext cx="1597320" cy="1843560"/>
            <a:chOff x="5198760" y="1639440"/>
            <a:chExt cx="1597320" cy="1843560"/>
          </a:xfrm>
        </p:grpSpPr>
        <p:sp>
          <p:nvSpPr>
            <p:cNvPr id="500" name="Line 6"/>
            <p:cNvSpPr/>
            <p:nvPr/>
          </p:nvSpPr>
          <p:spPr>
            <a:xfrm flipV="1">
              <a:off x="5878440" y="1639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 flipH="1" flipV="1">
              <a:off x="6113160" y="1643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 flipV="1">
              <a:off x="5573880" y="202104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 flipH="1" flipV="1">
              <a:off x="5808600" y="202392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 flipV="1">
              <a:off x="6107040" y="2021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 flipH="1" flipV="1">
              <a:off x="6341760" y="2023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 flipV="1">
              <a:off x="526896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 flipV="1">
              <a:off x="550368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 flipV="1">
              <a:off x="5802480" y="2401920"/>
              <a:ext cx="23148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 flipH="1" flipV="1">
              <a:off x="6037200" y="2404800"/>
              <a:ext cx="22248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 flipV="1">
              <a:off x="6335640" y="240192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 flipV="1">
              <a:off x="6570360" y="2404800"/>
              <a:ext cx="22212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 flipH="1" flipV="1">
              <a:off x="519876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 flipV="1">
              <a:off x="5497560" y="2782440"/>
              <a:ext cx="23184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 flipH="1" flipV="1">
              <a:off x="5732280" y="278604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 flipV="1">
              <a:off x="6031080" y="2782440"/>
              <a:ext cx="231480" cy="3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 flipH="1" flipV="1">
              <a:off x="6265800" y="2786040"/>
              <a:ext cx="22248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 flipV="1">
              <a:off x="6564240" y="279720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 flipH="1" flipV="1">
              <a:off x="542736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 flipV="1">
              <a:off x="5726160" y="3164040"/>
              <a:ext cx="23184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 flipH="1" flipV="1">
              <a:off x="5960880" y="3166920"/>
              <a:ext cx="22212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 flipV="1">
              <a:off x="6259680" y="31777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8"/>
          <p:cNvGrpSpPr/>
          <p:nvPr/>
        </p:nvGrpSpPr>
        <p:grpSpPr>
          <a:xfrm>
            <a:off x="4964040" y="1197000"/>
            <a:ext cx="2057400" cy="2438280"/>
            <a:chOff x="4964040" y="1197000"/>
            <a:chExt cx="2057400" cy="2438280"/>
          </a:xfrm>
        </p:grpSpPr>
        <p:sp>
          <p:nvSpPr>
            <p:cNvPr id="523" name="Oval 29"/>
            <p:cNvSpPr/>
            <p:nvPr/>
          </p:nvSpPr>
          <p:spPr>
            <a:xfrm>
              <a:off x="6335640" y="1959120"/>
              <a:ext cx="76320" cy="7596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Group 30"/>
            <p:cNvGrpSpPr/>
            <p:nvPr/>
          </p:nvGrpSpPr>
          <p:grpSpPr>
            <a:xfrm>
              <a:off x="4964040" y="1197000"/>
              <a:ext cx="2057400" cy="2438280"/>
              <a:chOff x="4964040" y="1197000"/>
              <a:chExt cx="2057400" cy="2438280"/>
            </a:xfrm>
          </p:grpSpPr>
          <p:sp>
            <p:nvSpPr>
              <p:cNvPr id="525" name="Oval 31"/>
              <p:cNvSpPr/>
              <p:nvPr/>
            </p:nvSpPr>
            <p:spPr>
              <a:xfrm>
                <a:off x="6075360" y="15778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32"/>
              <p:cNvSpPr/>
              <p:nvPr/>
            </p:nvSpPr>
            <p:spPr>
              <a:xfrm>
                <a:off x="4964040" y="1512720"/>
                <a:ext cx="2057400" cy="2122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5802480" y="1959120"/>
                <a:ext cx="75960" cy="7596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549756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35"/>
              <p:cNvSpPr/>
              <p:nvPr/>
            </p:nvSpPr>
            <p:spPr>
              <a:xfrm>
                <a:off x="6031080" y="2340000"/>
                <a:ext cx="7596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36"/>
              <p:cNvSpPr/>
              <p:nvPr/>
            </p:nvSpPr>
            <p:spPr>
              <a:xfrm>
                <a:off x="6564240" y="2340000"/>
                <a:ext cx="76320" cy="763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37"/>
              <p:cNvSpPr/>
              <p:nvPr/>
            </p:nvSpPr>
            <p:spPr>
              <a:xfrm>
                <a:off x="51926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572616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6259680" y="2720880"/>
                <a:ext cx="7596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0"/>
              <p:cNvSpPr/>
              <p:nvPr/>
            </p:nvSpPr>
            <p:spPr>
              <a:xfrm>
                <a:off x="6792840" y="2720880"/>
                <a:ext cx="76320" cy="763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1"/>
              <p:cNvSpPr/>
              <p:nvPr/>
            </p:nvSpPr>
            <p:spPr>
              <a:xfrm>
                <a:off x="542124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2"/>
              <p:cNvSpPr/>
              <p:nvPr/>
            </p:nvSpPr>
            <p:spPr>
              <a:xfrm>
                <a:off x="5954760" y="3102120"/>
                <a:ext cx="7632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3"/>
              <p:cNvSpPr/>
              <p:nvPr/>
            </p:nvSpPr>
            <p:spPr>
              <a:xfrm>
                <a:off x="6488280" y="3102120"/>
                <a:ext cx="75960" cy="7596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4"/>
              <p:cNvSpPr/>
              <p:nvPr/>
            </p:nvSpPr>
            <p:spPr>
              <a:xfrm>
                <a:off x="564984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Oval 45"/>
              <p:cNvSpPr/>
              <p:nvPr/>
            </p:nvSpPr>
            <p:spPr>
              <a:xfrm>
                <a:off x="6183360" y="348300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46"/>
              <p:cNvSpPr/>
              <p:nvPr/>
            </p:nvSpPr>
            <p:spPr>
              <a:xfrm>
                <a:off x="5339880" y="1197000"/>
                <a:ext cx="13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Hypothese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Group 47"/>
          <p:cNvGrpSpPr/>
          <p:nvPr/>
        </p:nvGrpSpPr>
        <p:grpSpPr>
          <a:xfrm>
            <a:off x="1306440" y="1197000"/>
            <a:ext cx="2057400" cy="2438280"/>
            <a:chOff x="1306440" y="1197000"/>
            <a:chExt cx="2057400" cy="2438280"/>
          </a:xfrm>
        </p:grpSpPr>
        <p:sp>
          <p:nvSpPr>
            <p:cNvPr id="542" name="Rectangle 48"/>
            <p:cNvSpPr/>
            <p:nvPr/>
          </p:nvSpPr>
          <p:spPr>
            <a:xfrm>
              <a:off x="1763640" y="1197000"/>
              <a:ext cx="11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ze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49"/>
            <p:cNvSpPr/>
            <p:nvPr/>
          </p:nvSpPr>
          <p:spPr>
            <a:xfrm>
              <a:off x="1306440" y="1512720"/>
              <a:ext cx="2057400" cy="212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3135240" y="1577880"/>
              <a:ext cx="76320" cy="763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754360" y="1806480"/>
              <a:ext cx="76320" cy="763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1535040" y="165420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1916280" y="1577880"/>
              <a:ext cx="75960" cy="763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1459080" y="2340000"/>
              <a:ext cx="75960" cy="763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55"/>
            <p:cNvSpPr/>
            <p:nvPr/>
          </p:nvSpPr>
          <p:spPr>
            <a:xfrm>
              <a:off x="1535040" y="3254400"/>
              <a:ext cx="76320" cy="7632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56"/>
            <p:cNvSpPr/>
            <p:nvPr/>
          </p:nvSpPr>
          <p:spPr>
            <a:xfrm>
              <a:off x="1687680" y="2797200"/>
              <a:ext cx="75960" cy="76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7"/>
            <p:cNvSpPr/>
            <p:nvPr/>
          </p:nvSpPr>
          <p:spPr>
            <a:xfrm>
              <a:off x="1839960" y="2111400"/>
              <a:ext cx="76320" cy="7632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58"/>
            <p:cNvSpPr/>
            <p:nvPr/>
          </p:nvSpPr>
          <p:spPr>
            <a:xfrm>
              <a:off x="2144880" y="3025800"/>
              <a:ext cx="75960" cy="763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59"/>
            <p:cNvSpPr/>
            <p:nvPr/>
          </p:nvSpPr>
          <p:spPr>
            <a:xfrm>
              <a:off x="2830680" y="3102120"/>
              <a:ext cx="75960" cy="7596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60"/>
            <p:cNvSpPr/>
            <p:nvPr/>
          </p:nvSpPr>
          <p:spPr>
            <a:xfrm>
              <a:off x="2449440" y="3178080"/>
              <a:ext cx="76320" cy="763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61"/>
            <p:cNvSpPr/>
            <p:nvPr/>
          </p:nvSpPr>
          <p:spPr>
            <a:xfrm>
              <a:off x="2678040" y="2568600"/>
              <a:ext cx="76320" cy="76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62"/>
            <p:cNvSpPr/>
            <p:nvPr/>
          </p:nvSpPr>
          <p:spPr>
            <a:xfrm>
              <a:off x="2220840" y="25686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63"/>
            <p:cNvSpPr/>
            <p:nvPr/>
          </p:nvSpPr>
          <p:spPr>
            <a:xfrm>
              <a:off x="2373480" y="1654200"/>
              <a:ext cx="75960" cy="76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64"/>
          <p:cNvGrpSpPr/>
          <p:nvPr/>
        </p:nvGrpSpPr>
        <p:grpSpPr>
          <a:xfrm>
            <a:off x="179280" y="1484280"/>
            <a:ext cx="4114800" cy="3315600"/>
            <a:chOff x="179280" y="1484280"/>
            <a:chExt cx="4114800" cy="3315600"/>
          </a:xfrm>
        </p:grpSpPr>
        <p:sp>
          <p:nvSpPr>
            <p:cNvPr id="559" name="Rectangle 65"/>
            <p:cNvSpPr/>
            <p:nvPr/>
          </p:nvSpPr>
          <p:spPr>
            <a:xfrm>
              <a:off x="179280" y="3693960"/>
              <a:ext cx="411480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Warm, Sam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Rainy, Cold, High, Strong, Warm, Change&gt;,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High, Strong, Cool, Change&gt;, 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66"/>
            <p:cNvSpPr/>
            <p:nvPr/>
          </p:nvSpPr>
          <p:spPr>
            <a:xfrm>
              <a:off x="1631160" y="14842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67"/>
            <p:cNvSpPr/>
            <p:nvPr/>
          </p:nvSpPr>
          <p:spPr>
            <a:xfrm>
              <a:off x="19360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68"/>
            <p:cNvSpPr/>
            <p:nvPr/>
          </p:nvSpPr>
          <p:spPr>
            <a:xfrm>
              <a:off x="2393280" y="247464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69"/>
            <p:cNvSpPr/>
            <p:nvPr/>
          </p:nvSpPr>
          <p:spPr>
            <a:xfrm>
              <a:off x="2164680" y="3084480"/>
              <a:ext cx="33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ind-S: Suche im Hypothesenrau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68000" y="4797360"/>
            <a:ext cx="817884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e von Find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gt nicht, ob der Begriff tatsächlich gelernt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Aussage, ob Daten inkonsisten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einzig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zifischste Hypothese muss nicht die beste Lösung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72"/>
          <p:cNvGrpSpPr/>
          <p:nvPr/>
        </p:nvGrpSpPr>
        <p:grpSpPr>
          <a:xfrm>
            <a:off x="1992240" y="1791720"/>
            <a:ext cx="6905520" cy="2370240"/>
            <a:chOff x="1992240" y="1791720"/>
            <a:chExt cx="6905520" cy="2370240"/>
          </a:xfrm>
        </p:grpSpPr>
        <p:sp>
          <p:nvSpPr>
            <p:cNvPr id="567" name="Rectangle 73"/>
            <p:cNvSpPr/>
            <p:nvPr/>
          </p:nvSpPr>
          <p:spPr>
            <a:xfrm>
              <a:off x="6339960" y="1806480"/>
              <a:ext cx="34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8" name="AutoShape 74"/>
            <p:cNvCxnSpPr>
              <a:stCxn id="569" idx="7"/>
              <a:endCxn id="504" idx="0"/>
            </p:cNvCxnSpPr>
            <p:nvPr/>
          </p:nvCxnSpPr>
          <p:spPr>
            <a:xfrm flipH="1" flipV="1" rot="5400000">
              <a:off x="4109760" y="294480"/>
              <a:ext cx="501840" cy="3956760"/>
            </a:xfrm>
            <a:prstGeom prst="curvedConnector5">
              <a:avLst>
                <a:gd name="adj1" fmla="val 145944"/>
                <a:gd name="adj2" fmla="val 50000"/>
                <a:gd name="adj3" fmla="val 145944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69" name="Oval 75"/>
            <p:cNvSpPr/>
            <p:nvPr/>
          </p:nvSpPr>
          <p:spPr>
            <a:xfrm>
              <a:off x="1992240" y="2492280"/>
              <a:ext cx="457200" cy="3049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76"/>
            <p:cNvSpPr/>
            <p:nvPr/>
          </p:nvSpPr>
          <p:spPr>
            <a:xfrm>
              <a:off x="4859280" y="3860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Normal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77"/>
          <p:cNvGrpSpPr/>
          <p:nvPr/>
        </p:nvGrpSpPr>
        <p:grpSpPr>
          <a:xfrm>
            <a:off x="1916280" y="2096640"/>
            <a:ext cx="6981480" cy="2281320"/>
            <a:chOff x="1916280" y="2096640"/>
            <a:chExt cx="6981480" cy="2281320"/>
          </a:xfrm>
        </p:grpSpPr>
        <p:sp>
          <p:nvSpPr>
            <p:cNvPr id="572" name="Rectangle 78"/>
            <p:cNvSpPr/>
            <p:nvPr/>
          </p:nvSpPr>
          <p:spPr>
            <a:xfrm>
              <a:off x="586728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79"/>
            <p:cNvSpPr/>
            <p:nvPr/>
          </p:nvSpPr>
          <p:spPr>
            <a:xfrm>
              <a:off x="1916280" y="2340000"/>
              <a:ext cx="1066680" cy="609480"/>
            </a:xfrm>
            <a:prstGeom prst="ellipse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4" name="AutoShape 80"/>
            <p:cNvCxnSpPr>
              <a:stCxn id="573" idx="7"/>
              <a:endCxn id="508" idx="0"/>
            </p:cNvCxnSpPr>
            <p:nvPr/>
          </p:nvCxnSpPr>
          <p:spPr>
            <a:xfrm flipH="1" flipV="1" rot="5400000">
              <a:off x="4423680" y="806040"/>
              <a:ext cx="13680" cy="3207240"/>
            </a:xfrm>
            <a:prstGeom prst="curvedConnector5">
              <a:avLst>
                <a:gd name="adj1" fmla="val 2400000"/>
                <a:gd name="adj2" fmla="val 50000"/>
                <a:gd name="adj3" fmla="val 2400000"/>
              </a:avLst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</p:cxnSp>
        <p:sp>
          <p:nvSpPr>
            <p:cNvPr id="575" name="Rectangle 81"/>
            <p:cNvSpPr/>
            <p:nvPr/>
          </p:nvSpPr>
          <p:spPr>
            <a:xfrm>
              <a:off x="4859280" y="4076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2"/>
          <p:cNvGrpSpPr/>
          <p:nvPr/>
        </p:nvGrpSpPr>
        <p:grpSpPr>
          <a:xfrm>
            <a:off x="1839960" y="2035080"/>
            <a:ext cx="7057800" cy="2774880"/>
            <a:chOff x="1839960" y="2035080"/>
            <a:chExt cx="7057800" cy="2774880"/>
          </a:xfrm>
        </p:grpSpPr>
        <p:sp>
          <p:nvSpPr>
            <p:cNvPr id="577" name="Oval 83"/>
            <p:cNvSpPr/>
            <p:nvPr/>
          </p:nvSpPr>
          <p:spPr>
            <a:xfrm>
              <a:off x="1839960" y="2035080"/>
              <a:ext cx="1324080" cy="1425600"/>
            </a:xfrm>
            <a:prstGeom prst="ellipse">
              <a:avLst/>
            </a:prstGeom>
            <a:noFill/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84"/>
            <p:cNvGrpSpPr/>
            <p:nvPr/>
          </p:nvGrpSpPr>
          <p:grpSpPr>
            <a:xfrm>
              <a:off x="2970360" y="3102120"/>
              <a:ext cx="5927400" cy="1707840"/>
              <a:chOff x="2970360" y="3102120"/>
              <a:chExt cx="5927400" cy="1707840"/>
            </a:xfrm>
          </p:grpSpPr>
          <p:sp>
            <p:nvSpPr>
              <p:cNvPr id="579" name="Rectangle 85"/>
              <p:cNvSpPr/>
              <p:nvPr/>
            </p:nvSpPr>
            <p:spPr>
              <a:xfrm>
                <a:off x="6441480" y="3102120"/>
                <a:ext cx="3470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0" name="AutoShape 86"/>
              <p:cNvCxnSpPr>
                <a:stCxn id="577" idx="5"/>
                <a:endCxn id="537" idx="3"/>
              </p:cNvCxnSpPr>
              <p:nvPr/>
            </p:nvCxnSpPr>
            <p:spPr>
              <a:xfrm flipH="1" flipV="1" rot="5400000">
                <a:off x="4685040" y="1451520"/>
                <a:ext cx="99360" cy="3529440"/>
              </a:xfrm>
              <a:prstGeom prst="curvedConnector5">
                <a:avLst>
                  <a:gd name="adj1" fmla="val -430545"/>
                  <a:gd name="adj2" fmla="val 49994"/>
                  <a:gd name="adj3" fmla="val -430545"/>
                </a:avLst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</p:cxnSp>
          <p:sp>
            <p:nvSpPr>
              <p:cNvPr id="581" name="Rectangle 87"/>
              <p:cNvSpPr/>
              <p:nvPr/>
            </p:nvSpPr>
            <p:spPr>
              <a:xfrm>
                <a:off x="4859280" y="4508640"/>
                <a:ext cx="40384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5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= &lt;Sunny, Warm, ?, Strong, ?,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88"/>
          <p:cNvGrpSpPr/>
          <p:nvPr/>
        </p:nvGrpSpPr>
        <p:grpSpPr>
          <a:xfrm>
            <a:off x="4859280" y="2276640"/>
            <a:ext cx="4038480" cy="2317320"/>
            <a:chOff x="4859280" y="2276640"/>
            <a:chExt cx="4038480" cy="2317320"/>
          </a:xfrm>
        </p:grpSpPr>
        <p:sp>
          <p:nvSpPr>
            <p:cNvPr id="583" name="Rectangle 89"/>
            <p:cNvSpPr/>
            <p:nvPr/>
          </p:nvSpPr>
          <p:spPr>
            <a:xfrm>
              <a:off x="4859280" y="4292640"/>
              <a:ext cx="4038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 &lt;Sunny, Warm, ?, Strong, Warm, Sam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90"/>
            <p:cNvSpPr/>
            <p:nvPr/>
          </p:nvSpPr>
          <p:spPr>
            <a:xfrm>
              <a:off x="6227640" y="2276640"/>
              <a:ext cx="514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konsistente Hypothe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Hypothes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einer Menge von Trainingsdaten D eines Zielkbegriff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au dann wenn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für alle Beispiele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aus D gi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sistent(h, D)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&lt;x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&gt;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: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 =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: Versions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zu einem Hypothesenraum H und Trainingsbeispielen D ist die Teilmenge der Hypothesen aus H, die konsistent mit allen Trainingsdaten aus D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H | konsistent(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merk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wir nicht nur an einer gültigen Lösung interessiert sind, dann ist der Versionsraum interes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539640" y="3716280"/>
            <a:ext cx="8076960" cy="2592720"/>
            <a:chOff x="539640" y="3716280"/>
            <a:chExt cx="8076960" cy="2592720"/>
          </a:xfrm>
        </p:grpSpPr>
        <p:grpSp>
          <p:nvGrpSpPr>
            <p:cNvPr id="588" name="Group 3"/>
            <p:cNvGrpSpPr/>
            <p:nvPr/>
          </p:nvGrpSpPr>
          <p:grpSpPr>
            <a:xfrm>
              <a:off x="539640" y="4020480"/>
              <a:ext cx="8076960" cy="1219320"/>
              <a:chOff x="539640" y="4020480"/>
              <a:chExt cx="8076960" cy="1219320"/>
            </a:xfrm>
          </p:grpSpPr>
          <p:sp>
            <p:nvSpPr>
              <p:cNvPr id="589" name="Rectangle 4"/>
              <p:cNvSpPr/>
              <p:nvPr/>
            </p:nvSpPr>
            <p:spPr>
              <a:xfrm>
                <a:off x="539640" y="485892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5"/>
              <p:cNvSpPr/>
              <p:nvPr/>
            </p:nvSpPr>
            <p:spPr>
              <a:xfrm>
                <a:off x="5396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6"/>
              <p:cNvSpPr/>
              <p:nvPr/>
            </p:nvSpPr>
            <p:spPr>
              <a:xfrm>
                <a:off x="32828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7"/>
              <p:cNvSpPr/>
              <p:nvPr/>
            </p:nvSpPr>
            <p:spPr>
              <a:xfrm>
                <a:off x="6026040" y="485892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AutoShape 8"/>
              <p:cNvCxnSpPr>
                <a:stCxn id="590" idx="0"/>
                <a:endCxn id="594" idx="2"/>
              </p:cNvCxnSpPr>
              <p:nvPr/>
            </p:nvCxnSpPr>
            <p:spPr>
              <a:xfrm flipV="1">
                <a:off x="183492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5" name="AutoShape 9"/>
              <p:cNvCxnSpPr>
                <a:stCxn id="591" idx="0"/>
                <a:endCxn id="594" idx="2"/>
              </p:cNvCxnSpPr>
              <p:nvPr/>
            </p:nvCxnSpPr>
            <p:spPr>
              <a:xfrm flipV="1">
                <a:off x="4577760" y="402048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96" name="AutoShape 10"/>
              <p:cNvCxnSpPr>
                <a:stCxn id="592" idx="0"/>
                <a:endCxn id="594" idx="2"/>
              </p:cNvCxnSpPr>
              <p:nvPr/>
            </p:nvCxnSpPr>
            <p:spPr>
              <a:xfrm flipH="1" flipV="1">
                <a:off x="4577760" y="402048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97" name="Group 11"/>
            <p:cNvGrpSpPr/>
            <p:nvPr/>
          </p:nvGrpSpPr>
          <p:grpSpPr>
            <a:xfrm>
              <a:off x="2795760" y="3716280"/>
              <a:ext cx="3078000" cy="368280"/>
              <a:chOff x="2795760" y="3716280"/>
              <a:chExt cx="3078000" cy="368280"/>
            </a:xfrm>
          </p:grpSpPr>
          <p:sp>
            <p:nvSpPr>
              <p:cNvPr id="594" name="Rectangle 12"/>
              <p:cNvSpPr/>
              <p:nvPr/>
            </p:nvSpPr>
            <p:spPr>
              <a:xfrm>
                <a:off x="3283200" y="371628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13"/>
              <p:cNvSpPr/>
              <p:nvPr/>
            </p:nvSpPr>
            <p:spPr>
              <a:xfrm>
                <a:off x="2795760" y="3716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14"/>
            <p:cNvGrpSpPr/>
            <p:nvPr/>
          </p:nvGrpSpPr>
          <p:grpSpPr>
            <a:xfrm>
              <a:off x="1442520" y="5239800"/>
              <a:ext cx="5878440" cy="1069200"/>
              <a:chOff x="1442520" y="5239800"/>
              <a:chExt cx="5878440" cy="1069200"/>
            </a:xfrm>
          </p:grpSpPr>
          <p:sp>
            <p:nvSpPr>
              <p:cNvPr id="600" name="Rectangle 15"/>
              <p:cNvSpPr/>
              <p:nvPr/>
            </p:nvSpPr>
            <p:spPr>
              <a:xfrm>
                <a:off x="1442520" y="5940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Group 16"/>
              <p:cNvGrpSpPr/>
              <p:nvPr/>
            </p:nvGrpSpPr>
            <p:grpSpPr>
              <a:xfrm>
                <a:off x="1911240" y="6001920"/>
                <a:ext cx="5333400" cy="307080"/>
                <a:chOff x="1911240" y="6001920"/>
                <a:chExt cx="5333400" cy="307080"/>
              </a:xfrm>
            </p:grpSpPr>
            <p:sp>
              <p:nvSpPr>
                <p:cNvPr id="602" name="Rectangle 17"/>
                <p:cNvSpPr/>
                <p:nvPr/>
              </p:nvSpPr>
              <p:spPr>
                <a:xfrm>
                  <a:off x="1911240" y="6001920"/>
                  <a:ext cx="533340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18"/>
                <p:cNvSpPr/>
                <p:nvPr/>
              </p:nvSpPr>
              <p:spPr>
                <a:xfrm>
                  <a:off x="2436840" y="600192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19"/>
                <p:cNvSpPr/>
                <p:nvPr/>
              </p:nvSpPr>
              <p:spPr>
                <a:xfrm>
                  <a:off x="4723920" y="600192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05" name="AutoShape 20"/>
              <p:cNvCxnSpPr>
                <a:stCxn id="603" idx="0"/>
                <a:endCxn id="590" idx="2"/>
              </p:cNvCxnSpPr>
              <p:nvPr/>
            </p:nvCxnSpPr>
            <p:spPr>
              <a:xfrm flipH="1" flipV="1">
                <a:off x="1834200" y="5239800"/>
                <a:ext cx="154980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6" name="AutoShape 21"/>
              <p:cNvCxnSpPr>
                <a:stCxn id="603" idx="0"/>
                <a:endCxn id="591" idx="2"/>
              </p:cNvCxnSpPr>
              <p:nvPr/>
            </p:nvCxnSpPr>
            <p:spPr>
              <a:xfrm flipV="1">
                <a:off x="3384000" y="5239800"/>
                <a:ext cx="1194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7" name="AutoShape 22"/>
              <p:cNvCxnSpPr>
                <a:stCxn id="604" idx="0"/>
                <a:endCxn id="591" idx="2"/>
              </p:cNvCxnSpPr>
              <p:nvPr/>
            </p:nvCxnSpPr>
            <p:spPr>
              <a:xfrm flipH="1" flipV="1">
                <a:off x="4577400" y="5239800"/>
                <a:ext cx="10767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AutoShape 23"/>
              <p:cNvCxnSpPr>
                <a:stCxn id="604" idx="0"/>
                <a:endCxn id="592" idx="2"/>
              </p:cNvCxnSpPr>
              <p:nvPr/>
            </p:nvCxnSpPr>
            <p:spPr>
              <a:xfrm flipV="1">
                <a:off x="5654160" y="5239800"/>
                <a:ext cx="1667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er List-Then-Eliminate 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94920" y="11966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Initialisierung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S := 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ist VS die Liste aller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rainingsbeispiele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ersione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FALL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ZE VS := VS\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gabe des Versionsraums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324000" y="3860640"/>
            <a:ext cx="158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Enjoy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Repräsentierung des Versionsrau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 zum Versions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ensichtlich gibt es am meisten spezifische und am meisten generelle Vers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, die “dazwischen” liegt, muss auch eine Lösung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Generell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generelle Schranke G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generell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mehr Elemente zum Begriff dazunimm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nimmt auch Fehler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: Spezifisch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pezifische Schranke S des Versionsraumes 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 die Menge der spezifischs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= {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| 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 un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: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D)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jede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as weniger Elemente im Begriff hat als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em fehlen gültige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ersionsraum-Theor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0920" y="13712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e Hypothese des Versionsraums liegt zwischen S u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{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H |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weis: Übung und/oder bei Mitchell nachscha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nwe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erst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ist auch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eige dann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iside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s Definition von G folg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 gilt entweder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oder es gibt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&gt;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nn kann man das gleiche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‘ fortfüh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 H endlich ist, muß man irgendwann an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kommen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3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analog: Wen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,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ann gibt es ei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andidateneliminationsalgorit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1197000"/>
            <a:ext cx="896472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itialis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= {&lt;?, … , ?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gener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= {&lt;Ø, … , Ø&gt;}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Menge mit speziellstem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Trainingsbeispiele d=&lt;x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&gt;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posi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g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, die schon zu klein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s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S um alle minimalen Gener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1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unter der gener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gener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WEN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0,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.h. für neagtive Beispie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:=S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(d.h. lösche alle s</a:t>
            </a:r>
            <a:r>
              <a:rPr b="0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, die schon zu groß si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FÜRALL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 mit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=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SET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G:=G\{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weitere G um alle minimalen Spezialisierunge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so da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x) = 0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st konsistent mit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: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d.h.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iegt noch über der speziellen Schran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e alle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, die spezieller sind als andere Elemente aus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-507960" y="2208960"/>
            <a:ext cx="4989600" cy="4140360"/>
            <a:chOff x="-507960" y="2208960"/>
            <a:chExt cx="4989600" cy="4140360"/>
          </a:xfrm>
        </p:grpSpPr>
        <p:grpSp>
          <p:nvGrpSpPr>
            <p:cNvPr id="619" name="Group 3"/>
            <p:cNvGrpSpPr/>
            <p:nvPr/>
          </p:nvGrpSpPr>
          <p:grpSpPr>
            <a:xfrm>
              <a:off x="-507960" y="2514600"/>
              <a:ext cx="4989600" cy="405720"/>
              <a:chOff x="-507960" y="2514600"/>
              <a:chExt cx="4989600" cy="405720"/>
            </a:xfrm>
          </p:grpSpPr>
          <p:sp>
            <p:nvSpPr>
              <p:cNvPr id="620" name="Rectangle 4"/>
              <p:cNvSpPr/>
              <p:nvPr/>
            </p:nvSpPr>
            <p:spPr>
              <a:xfrm>
                <a:off x="1042920" y="2514600"/>
                <a:ext cx="343872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5"/>
              <p:cNvSpPr/>
              <p:nvPr/>
            </p:nvSpPr>
            <p:spPr>
              <a:xfrm>
                <a:off x="-507960" y="2514600"/>
                <a:ext cx="1503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2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6"/>
            <p:cNvSpPr/>
            <p:nvPr/>
          </p:nvSpPr>
          <p:spPr>
            <a:xfrm>
              <a:off x="84744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7"/>
            <p:cNvCxnSpPr>
              <a:stCxn id="620" idx="0"/>
              <a:endCxn id="624" idx="2"/>
            </p:cNvCxnSpPr>
            <p:nvPr/>
          </p:nvCxnSpPr>
          <p:spPr>
            <a:xfrm flipV="1">
              <a:off x="2761920" y="22089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5" name="Group 8"/>
          <p:cNvGrpSpPr/>
          <p:nvPr/>
        </p:nvGrpSpPr>
        <p:grpSpPr>
          <a:xfrm>
            <a:off x="-380880" y="1143000"/>
            <a:ext cx="4438440" cy="5206320"/>
            <a:chOff x="-380880" y="1143000"/>
            <a:chExt cx="4438440" cy="5206320"/>
          </a:xfrm>
        </p:grpSpPr>
        <p:grpSp>
          <p:nvGrpSpPr>
            <p:cNvPr id="626" name="Group 9"/>
            <p:cNvGrpSpPr/>
            <p:nvPr/>
          </p:nvGrpSpPr>
          <p:grpSpPr>
            <a:xfrm>
              <a:off x="1034280" y="1143000"/>
              <a:ext cx="3023280" cy="405720"/>
              <a:chOff x="1034280" y="1143000"/>
              <a:chExt cx="3023280" cy="405720"/>
            </a:xfrm>
          </p:grpSpPr>
          <p:sp>
            <p:nvSpPr>
              <p:cNvPr id="627" name="Rectangle 10"/>
              <p:cNvSpPr/>
              <p:nvPr/>
            </p:nvSpPr>
            <p:spPr>
              <a:xfrm>
                <a:off x="1467000" y="1143000"/>
                <a:ext cx="2590560" cy="3808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Ø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1"/>
              <p:cNvSpPr/>
              <p:nvPr/>
            </p:nvSpPr>
            <p:spPr>
              <a:xfrm>
                <a:off x="1034280" y="11430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12"/>
            <p:cNvGrpSpPr/>
            <p:nvPr/>
          </p:nvGrpSpPr>
          <p:grpSpPr>
            <a:xfrm>
              <a:off x="-380880" y="5943600"/>
              <a:ext cx="4417920" cy="405720"/>
              <a:chOff x="-380880" y="5943600"/>
              <a:chExt cx="4417920" cy="405720"/>
            </a:xfrm>
          </p:grpSpPr>
          <p:sp>
            <p:nvSpPr>
              <p:cNvPr id="630" name="Rectangle 13"/>
              <p:cNvSpPr/>
              <p:nvPr/>
            </p:nvSpPr>
            <p:spPr>
              <a:xfrm>
                <a:off x="1446120" y="5943600"/>
                <a:ext cx="25909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"/>
              <p:cNvSpPr/>
              <p:nvPr/>
            </p:nvSpPr>
            <p:spPr>
              <a:xfrm>
                <a:off x="-380880" y="5943600"/>
                <a:ext cx="1236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0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15"/>
          <p:cNvSpPr/>
          <p:nvPr/>
        </p:nvSpPr>
        <p:spPr>
          <a:xfrm>
            <a:off x="4952880" y="10666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Normal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4952880" y="15238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Warm, Sam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7"/>
          <p:cNvSpPr/>
          <p:nvPr/>
        </p:nvSpPr>
        <p:spPr>
          <a:xfrm>
            <a:off x="4952880" y="19810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Rainy, Cold, High, Strong, Warm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8"/>
          <p:cNvSpPr/>
          <p:nvPr/>
        </p:nvSpPr>
        <p:spPr>
          <a:xfrm>
            <a:off x="4952880" y="2438280"/>
            <a:ext cx="4114800" cy="381240"/>
          </a:xfrm>
          <a:prstGeom prst="roundRect">
            <a:avLst>
              <a:gd name="adj" fmla="val 141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&lt;Sunny, Warm, High, Strong, Cool, Change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9"/>
          <p:cNvGrpSpPr/>
          <p:nvPr/>
        </p:nvGrpSpPr>
        <p:grpSpPr>
          <a:xfrm>
            <a:off x="38520" y="2514600"/>
            <a:ext cx="5905080" cy="3428640"/>
            <a:chOff x="38520" y="2514600"/>
            <a:chExt cx="5905080" cy="3428640"/>
          </a:xfrm>
        </p:grpSpPr>
        <p:sp>
          <p:nvSpPr>
            <p:cNvPr id="637" name="Rectangle 20"/>
            <p:cNvSpPr/>
            <p:nvPr/>
          </p:nvSpPr>
          <p:spPr>
            <a:xfrm>
              <a:off x="387360" y="2514600"/>
              <a:ext cx="60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21"/>
            <p:cNvGrpSpPr/>
            <p:nvPr/>
          </p:nvGrpSpPr>
          <p:grpSpPr>
            <a:xfrm>
              <a:off x="38520" y="5257800"/>
              <a:ext cx="5905080" cy="420120"/>
              <a:chOff x="38520" y="5257800"/>
              <a:chExt cx="5905080" cy="420120"/>
            </a:xfrm>
          </p:grpSpPr>
          <p:sp>
            <p:nvSpPr>
              <p:cNvPr id="639" name="Rectangle 22"/>
              <p:cNvSpPr/>
              <p:nvPr/>
            </p:nvSpPr>
            <p:spPr>
              <a:xfrm>
                <a:off x="457200" y="5257800"/>
                <a:ext cx="5486400" cy="38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&lt;?, Warm, ?, ?, ?, ?&g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?, ?, ?, ?, Same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23"/>
              <p:cNvSpPr/>
              <p:nvPr/>
            </p:nvSpPr>
            <p:spPr>
              <a:xfrm>
                <a:off x="38520" y="527220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AutoShape 24"/>
            <p:cNvCxnSpPr>
              <a:stCxn id="630" idx="0"/>
              <a:endCxn id="639" idx="2"/>
            </p:cNvCxnSpPr>
            <p:nvPr/>
          </p:nvCxnSpPr>
          <p:spPr>
            <a:xfrm flipV="1">
              <a:off x="2741760" y="5637960"/>
              <a:ext cx="4593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5"/>
          <p:cNvGrpSpPr/>
          <p:nvPr/>
        </p:nvGrpSpPr>
        <p:grpSpPr>
          <a:xfrm>
            <a:off x="448920" y="3580560"/>
            <a:ext cx="7018560" cy="991440"/>
            <a:chOff x="448920" y="3580560"/>
            <a:chExt cx="7018560" cy="991440"/>
          </a:xfrm>
        </p:grpSpPr>
        <p:grpSp>
          <p:nvGrpSpPr>
            <p:cNvPr id="643" name="Group 26"/>
            <p:cNvGrpSpPr/>
            <p:nvPr/>
          </p:nvGrpSpPr>
          <p:grpSpPr>
            <a:xfrm>
              <a:off x="448920" y="3886200"/>
              <a:ext cx="7018560" cy="380880"/>
              <a:chOff x="448920" y="3886200"/>
              <a:chExt cx="7018560" cy="380880"/>
            </a:xfrm>
          </p:grpSpPr>
          <p:sp>
            <p:nvSpPr>
              <p:cNvPr id="644" name="Rectangle 27"/>
              <p:cNvSpPr/>
              <p:nvPr/>
            </p:nvSpPr>
            <p:spPr>
              <a:xfrm>
                <a:off x="457200" y="3886200"/>
                <a:ext cx="701028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28"/>
              <p:cNvSpPr/>
              <p:nvPr/>
            </p:nvSpPr>
            <p:spPr>
              <a:xfrm>
                <a:off x="448920" y="3886200"/>
                <a:ext cx="231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29"/>
              <p:cNvSpPr/>
              <p:nvPr/>
            </p:nvSpPr>
            <p:spPr>
              <a:xfrm>
                <a:off x="2812320" y="388620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30"/>
              <p:cNvSpPr/>
              <p:nvPr/>
            </p:nvSpPr>
            <p:spPr>
              <a:xfrm>
                <a:off x="5174280" y="3886200"/>
                <a:ext cx="228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8" name="AutoShape 31"/>
            <p:cNvCxnSpPr>
              <a:stCxn id="649" idx="0"/>
              <a:endCxn id="645" idx="2"/>
            </p:cNvCxnSpPr>
            <p:nvPr/>
          </p:nvCxnSpPr>
          <p:spPr>
            <a:xfrm flipH="1" flipV="1">
              <a:off x="1607400" y="4190760"/>
              <a:ext cx="1836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32"/>
            <p:cNvCxnSpPr>
              <a:stCxn id="649" idx="0"/>
              <a:endCxn id="646" idx="2"/>
            </p:cNvCxnSpPr>
            <p:nvPr/>
          </p:nvCxnSpPr>
          <p:spPr>
            <a:xfrm flipV="1">
              <a:off x="1625400" y="4190760"/>
              <a:ext cx="23216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33"/>
            <p:cNvCxnSpPr>
              <a:stCxn id="652" idx="0"/>
              <a:endCxn id="646" idx="2"/>
            </p:cNvCxnSpPr>
            <p:nvPr/>
          </p:nvCxnSpPr>
          <p:spPr>
            <a:xfrm flipV="1">
              <a:off x="3895560" y="4190760"/>
              <a:ext cx="5184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4"/>
            <p:cNvCxnSpPr>
              <a:stCxn id="652" idx="0"/>
              <a:endCxn id="647" idx="2"/>
            </p:cNvCxnSpPr>
            <p:nvPr/>
          </p:nvCxnSpPr>
          <p:spPr>
            <a:xfrm flipV="1">
              <a:off x="3895560" y="4190760"/>
              <a:ext cx="242352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5"/>
            <p:cNvCxnSpPr>
              <a:stCxn id="645" idx="0"/>
              <a:endCxn id="655" idx="2"/>
            </p:cNvCxnSpPr>
            <p:nvPr/>
          </p:nvCxnSpPr>
          <p:spPr>
            <a:xfrm flipV="1">
              <a:off x="1608120" y="3580560"/>
              <a:ext cx="11548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AutoShape 36"/>
            <p:cNvCxnSpPr>
              <a:stCxn id="646" idx="0"/>
              <a:endCxn id="655" idx="2"/>
            </p:cNvCxnSpPr>
            <p:nvPr/>
          </p:nvCxnSpPr>
          <p:spPr>
            <a:xfrm flipH="1" flipV="1">
              <a:off x="2761920" y="3580560"/>
              <a:ext cx="1185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AutoShape 37"/>
            <p:cNvCxnSpPr>
              <a:stCxn id="647" idx="0"/>
              <a:endCxn id="655" idx="2"/>
            </p:cNvCxnSpPr>
            <p:nvPr/>
          </p:nvCxnSpPr>
          <p:spPr>
            <a:xfrm flipH="1" flipV="1">
              <a:off x="2761920" y="3580560"/>
              <a:ext cx="35568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8" name="Group 38"/>
          <p:cNvGrpSpPr/>
          <p:nvPr/>
        </p:nvGrpSpPr>
        <p:grpSpPr>
          <a:xfrm>
            <a:off x="235440" y="2894760"/>
            <a:ext cx="4717440" cy="2362680"/>
            <a:chOff x="235440" y="2894760"/>
            <a:chExt cx="4717440" cy="2362680"/>
          </a:xfrm>
        </p:grpSpPr>
        <p:grpSp>
          <p:nvGrpSpPr>
            <p:cNvPr id="659" name="Group 39"/>
            <p:cNvGrpSpPr/>
            <p:nvPr/>
          </p:nvGrpSpPr>
          <p:grpSpPr>
            <a:xfrm>
              <a:off x="577080" y="3200400"/>
              <a:ext cx="3904560" cy="405720"/>
              <a:chOff x="577080" y="3200400"/>
              <a:chExt cx="3904560" cy="405720"/>
            </a:xfrm>
          </p:grpSpPr>
          <p:sp>
            <p:nvSpPr>
              <p:cNvPr id="655" name="Rectangle 40"/>
              <p:cNvSpPr/>
              <p:nvPr/>
            </p:nvSpPr>
            <p:spPr>
              <a:xfrm>
                <a:off x="1042920" y="3200400"/>
                <a:ext cx="3438720" cy="380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?, Strong, ?, ?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41"/>
              <p:cNvSpPr/>
              <p:nvPr/>
            </p:nvSpPr>
            <p:spPr>
              <a:xfrm>
                <a:off x="577080" y="3200400"/>
                <a:ext cx="40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235440" y="4510080"/>
              <a:ext cx="4717440" cy="582120"/>
              <a:chOff x="235440" y="4510080"/>
              <a:chExt cx="4717440" cy="582120"/>
            </a:xfrm>
          </p:grpSpPr>
          <p:sp>
            <p:nvSpPr>
              <p:cNvPr id="662" name="Rectangle 43"/>
              <p:cNvSpPr/>
              <p:nvPr/>
            </p:nvSpPr>
            <p:spPr>
              <a:xfrm>
                <a:off x="235440" y="4510080"/>
                <a:ext cx="496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G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Group 44"/>
              <p:cNvGrpSpPr/>
              <p:nvPr/>
            </p:nvGrpSpPr>
            <p:grpSpPr>
              <a:xfrm>
                <a:off x="685800" y="4572000"/>
                <a:ext cx="4267080" cy="520200"/>
                <a:chOff x="685800" y="4572000"/>
                <a:chExt cx="4267080" cy="520200"/>
              </a:xfrm>
            </p:grpSpPr>
            <p:sp>
              <p:nvSpPr>
                <p:cNvPr id="664" name="Rectangle 45"/>
                <p:cNvSpPr/>
                <p:nvPr/>
              </p:nvSpPr>
              <p:spPr>
                <a:xfrm>
                  <a:off x="685800" y="4572000"/>
                  <a:ext cx="4267080" cy="38088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46"/>
                <p:cNvSpPr/>
                <p:nvPr/>
              </p:nvSpPr>
              <p:spPr>
                <a:xfrm>
                  <a:off x="685800" y="4572000"/>
                  <a:ext cx="18781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47"/>
                <p:cNvSpPr/>
                <p:nvPr/>
              </p:nvSpPr>
              <p:spPr>
                <a:xfrm>
                  <a:off x="2971800" y="4572000"/>
                  <a:ext cx="18478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5" name="AutoShape 48"/>
            <p:cNvCxnSpPr>
              <a:stCxn id="639" idx="0"/>
              <a:endCxn id="664" idx="2"/>
            </p:cNvCxnSpPr>
            <p:nvPr/>
          </p:nvCxnSpPr>
          <p:spPr>
            <a:xfrm flipH="1" flipV="1">
              <a:off x="2819160" y="4952160"/>
              <a:ext cx="38160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AutoShape 49"/>
            <p:cNvCxnSpPr>
              <a:stCxn id="655" idx="0"/>
              <a:endCxn id="620" idx="2"/>
            </p:cNvCxnSpPr>
            <p:nvPr/>
          </p:nvCxnSpPr>
          <p:spPr>
            <a:xfrm flipV="1">
              <a:off x="2761920" y="28947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7" name="Group 50"/>
          <p:cNvGrpSpPr/>
          <p:nvPr/>
        </p:nvGrpSpPr>
        <p:grpSpPr>
          <a:xfrm>
            <a:off x="314280" y="1523160"/>
            <a:ext cx="4410000" cy="4826160"/>
            <a:chOff x="314280" y="1523160"/>
            <a:chExt cx="4410000" cy="4826160"/>
          </a:xfrm>
        </p:grpSpPr>
        <p:grpSp>
          <p:nvGrpSpPr>
            <p:cNvPr id="668" name="Group 51"/>
            <p:cNvGrpSpPr/>
            <p:nvPr/>
          </p:nvGrpSpPr>
          <p:grpSpPr>
            <a:xfrm>
              <a:off x="367560" y="1828800"/>
              <a:ext cx="4356720" cy="405720"/>
              <a:chOff x="367560" y="1828800"/>
              <a:chExt cx="4356720" cy="405720"/>
            </a:xfrm>
          </p:grpSpPr>
          <p:sp>
            <p:nvSpPr>
              <p:cNvPr id="624" name="Rectangle 52"/>
              <p:cNvSpPr/>
              <p:nvPr/>
            </p:nvSpPr>
            <p:spPr>
              <a:xfrm>
                <a:off x="800280" y="1828800"/>
                <a:ext cx="392400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lt;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unny, Warm, Normal, Strong, Warm, Same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3"/>
              <p:cNvSpPr/>
              <p:nvPr/>
            </p:nvSpPr>
            <p:spPr>
              <a:xfrm>
                <a:off x="367560" y="1828800"/>
                <a:ext cx="479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8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 baseline="-25000">
                    <a:solidFill>
                      <a:srgbClr val="800000"/>
                    </a:solidFill>
                    <a:latin typeface="Arial"/>
                  </a:rPr>
                  <a:t>1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Rectangle 54"/>
            <p:cNvSpPr/>
            <p:nvPr/>
          </p:nvSpPr>
          <p:spPr>
            <a:xfrm>
              <a:off x="314280" y="594360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= G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AutoShape 55"/>
            <p:cNvCxnSpPr>
              <a:stCxn id="624" idx="0"/>
              <a:endCxn id="627" idx="2"/>
            </p:cNvCxnSpPr>
            <p:nvPr/>
          </p:nvCxnSpPr>
          <p:spPr>
            <a:xfrm flipV="1">
              <a:off x="2761920" y="152316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lau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533520" y="1143000"/>
            <a:ext cx="8076960" cy="2592720"/>
            <a:chOff x="533520" y="1143000"/>
            <a:chExt cx="8076960" cy="2592720"/>
          </a:xfrm>
        </p:grpSpPr>
        <p:grpSp>
          <p:nvGrpSpPr>
            <p:cNvPr id="674" name="Group 3"/>
            <p:cNvGrpSpPr/>
            <p:nvPr/>
          </p:nvGrpSpPr>
          <p:grpSpPr>
            <a:xfrm>
              <a:off x="533520" y="1447200"/>
              <a:ext cx="8076960" cy="1219320"/>
              <a:chOff x="533520" y="1447200"/>
              <a:chExt cx="8076960" cy="1219320"/>
            </a:xfrm>
          </p:grpSpPr>
          <p:sp>
            <p:nvSpPr>
              <p:cNvPr id="675" name="Rectangle 4"/>
              <p:cNvSpPr/>
              <p:nvPr/>
            </p:nvSpPr>
            <p:spPr>
              <a:xfrm>
                <a:off x="533520" y="2285640"/>
                <a:ext cx="80010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Rectangle 5"/>
              <p:cNvSpPr/>
              <p:nvPr/>
            </p:nvSpPr>
            <p:spPr>
              <a:xfrm>
                <a:off x="5335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?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6"/>
              <p:cNvSpPr/>
              <p:nvPr/>
            </p:nvSpPr>
            <p:spPr>
              <a:xfrm>
                <a:off x="32767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?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7"/>
              <p:cNvSpPr/>
              <p:nvPr/>
            </p:nvSpPr>
            <p:spPr>
              <a:xfrm>
                <a:off x="6019920" y="2285640"/>
                <a:ext cx="2590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?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AutoShape 8"/>
              <p:cNvCxnSpPr>
                <a:stCxn id="676" idx="0"/>
                <a:endCxn id="680" idx="2"/>
              </p:cNvCxnSpPr>
              <p:nvPr/>
            </p:nvCxnSpPr>
            <p:spPr>
              <a:xfrm flipV="1">
                <a:off x="182880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1" name="AutoShape 9"/>
              <p:cNvCxnSpPr>
                <a:stCxn id="677" idx="0"/>
                <a:endCxn id="680" idx="2"/>
              </p:cNvCxnSpPr>
              <p:nvPr/>
            </p:nvCxnSpPr>
            <p:spPr>
              <a:xfrm flipV="1">
                <a:off x="4571640" y="1447200"/>
                <a:ext cx="108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2" name="AutoShape 10"/>
              <p:cNvCxnSpPr>
                <a:stCxn id="678" idx="0"/>
                <a:endCxn id="680" idx="2"/>
              </p:cNvCxnSpPr>
              <p:nvPr/>
            </p:nvCxnSpPr>
            <p:spPr>
              <a:xfrm flipH="1" flipV="1">
                <a:off x="4571640" y="1447200"/>
                <a:ext cx="2743920" cy="838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83" name="Group 11"/>
            <p:cNvGrpSpPr/>
            <p:nvPr/>
          </p:nvGrpSpPr>
          <p:grpSpPr>
            <a:xfrm>
              <a:off x="2789280" y="1143000"/>
              <a:ext cx="3078000" cy="368280"/>
              <a:chOff x="2789280" y="1143000"/>
              <a:chExt cx="3078000" cy="368280"/>
            </a:xfrm>
          </p:grpSpPr>
          <p:sp>
            <p:nvSpPr>
              <p:cNvPr id="680" name="Rectangle 12"/>
              <p:cNvSpPr/>
              <p:nvPr/>
            </p:nvSpPr>
            <p:spPr>
              <a:xfrm>
                <a:off x="3276720" y="1143000"/>
                <a:ext cx="2590560" cy="304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&lt;Sunny, Warm, ?, Strong, ?, ?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3"/>
              <p:cNvSpPr/>
              <p:nvPr/>
            </p:nvSpPr>
            <p:spPr>
              <a:xfrm>
                <a:off x="2789280" y="1143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S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14"/>
            <p:cNvGrpSpPr/>
            <p:nvPr/>
          </p:nvGrpSpPr>
          <p:grpSpPr>
            <a:xfrm>
              <a:off x="1436400" y="2666520"/>
              <a:ext cx="5879160" cy="1069200"/>
              <a:chOff x="1436400" y="2666520"/>
              <a:chExt cx="5879160" cy="1069200"/>
            </a:xfrm>
          </p:grpSpPr>
          <p:sp>
            <p:nvSpPr>
              <p:cNvPr id="686" name="Rectangle 15"/>
              <p:cNvSpPr/>
              <p:nvPr/>
            </p:nvSpPr>
            <p:spPr>
              <a:xfrm>
                <a:off x="1436400" y="33667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G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Group 16"/>
              <p:cNvGrpSpPr/>
              <p:nvPr/>
            </p:nvGrpSpPr>
            <p:grpSpPr>
              <a:xfrm>
                <a:off x="1905120" y="3428640"/>
                <a:ext cx="5333760" cy="307080"/>
                <a:chOff x="1905120" y="3428640"/>
                <a:chExt cx="5333760" cy="307080"/>
              </a:xfrm>
            </p:grpSpPr>
            <p:sp>
              <p:nvSpPr>
                <p:cNvPr id="688" name="Rectangle 17"/>
                <p:cNvSpPr/>
                <p:nvPr/>
              </p:nvSpPr>
              <p:spPr>
                <a:xfrm>
                  <a:off x="1905120" y="3428640"/>
                  <a:ext cx="5333760" cy="3049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18"/>
                <p:cNvSpPr/>
                <p:nvPr/>
              </p:nvSpPr>
              <p:spPr>
                <a:xfrm>
                  <a:off x="2431440" y="3428640"/>
                  <a:ext cx="189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Sunny, ?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19"/>
                <p:cNvSpPr/>
                <p:nvPr/>
              </p:nvSpPr>
              <p:spPr>
                <a:xfrm>
                  <a:off x="4718160" y="3428640"/>
                  <a:ext cx="1860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&lt;?, Warm, ?, ?, ?, ?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AutoShape 20"/>
              <p:cNvCxnSpPr>
                <a:stCxn id="689" idx="0"/>
                <a:endCxn id="676" idx="2"/>
              </p:cNvCxnSpPr>
              <p:nvPr/>
            </p:nvCxnSpPr>
            <p:spPr>
              <a:xfrm flipH="1" flipV="1">
                <a:off x="1828440" y="2666520"/>
                <a:ext cx="155016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2" name="AutoShape 21"/>
              <p:cNvCxnSpPr>
                <a:stCxn id="689" idx="0"/>
                <a:endCxn id="677" idx="2"/>
              </p:cNvCxnSpPr>
              <p:nvPr/>
            </p:nvCxnSpPr>
            <p:spPr>
              <a:xfrm flipV="1">
                <a:off x="3378240" y="2666520"/>
                <a:ext cx="119448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3" name="AutoShape 22"/>
              <p:cNvCxnSpPr>
                <a:stCxn id="690" idx="0"/>
                <a:endCxn id="677" idx="2"/>
              </p:cNvCxnSpPr>
              <p:nvPr/>
            </p:nvCxnSpPr>
            <p:spPr>
              <a:xfrm flipH="1" flipV="1">
                <a:off x="4571640" y="2666520"/>
                <a:ext cx="10771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94" name="AutoShape 23"/>
              <p:cNvCxnSpPr>
                <a:stCxn id="690" idx="0"/>
                <a:endCxn id="678" idx="2"/>
              </p:cNvCxnSpPr>
              <p:nvPr/>
            </p:nvCxnSpPr>
            <p:spPr>
              <a:xfrm flipV="1">
                <a:off x="5648400" y="2666520"/>
                <a:ext cx="1667520" cy="762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Was macht man mit dem Versionsraum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4920" y="3860280"/>
            <a:ext cx="8178840" cy="24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rtung von neuen Bei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Strong, Cool, Chan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Rai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Warm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Sunny, Cold, Normal, Light, Warm, S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kei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re Entscheidungen, Mehrheiten, Unentschi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neuer Trainings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al: solche, die den Versionsraum in zwei gleich große Teile tei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Generalisierung beim induktiven Lern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 für induktive Generalis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ve Beispie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Strong, Cool, Chang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Light, Warm, Same, Ye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folgertes 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lt;Sunny, Warm, Normal, ?, ?, 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r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rechtfertigt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&lt;Sunny, Warm, Normal, Strong, Warm, S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nn gibt es ausreichende Informationen für eine Generalisieru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duktive Bi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as (engl.) – Vorliebe, Voreingenommenheit, Befangenheit, systematischer Fehl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duktiver B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der möglichen Hypothesen beschränkt die möglichen Lösunge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di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nnähern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Klassifizierung neuer Beispiele kann der Versionsraum zur Mehrheitsentscheidung genutzt werden, oder nur eindeutige Entscheidungen getroffen wer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induktive Bias beschreibt alle Grundannahmen, die in dem Lern- und Klassifikationsverfahren stec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induktiven Bias gibt es keine Generalisieru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Beispiel: automatische Fahrzeugnavig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71600"/>
            <a:ext cx="64962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 selbständige Fahrzeuge in z.T. unbekannten Umgeb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iele zu lernende Teil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ung und Akto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uations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nung und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begin{figure}&#10;\setlength{\epsfxsize}{10cm} \centerline{\epsffile{./nomad.eps}}&#10;\end{figure}"/>
          <p:cNvPicPr/>
          <p:nvPr/>
        </p:nvPicPr>
        <p:blipFill>
          <a:blip r:embed="rId1"/>
          <a:srcRect l="3117" t="0" r="0" b="0"/>
          <a:stretch/>
        </p:blipFill>
        <p:spPr>
          <a:xfrm>
            <a:off x="6877080" y="765000"/>
            <a:ext cx="2266920" cy="163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\begin{figure}&#10;\setlength{\epsfxsize}{15cm} \epsffile{./ugv.eps}\end{figure}"/>
          <p:cNvPicPr/>
          <p:nvPr/>
        </p:nvPicPr>
        <p:blipFill>
          <a:blip r:embed="rId2"/>
          <a:srcRect l="44733" t="0" r="0" b="0"/>
          <a:stretch/>
        </p:blipFill>
        <p:spPr>
          <a:xfrm>
            <a:off x="6362640" y="4021200"/>
            <a:ext cx="2781360" cy="2836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\begin{figure}&#10;\setlength{\epsfxsize}{7cm} \centerline{\epsffile{./demeter.eps}}\end{figure}"/>
          <p:cNvPicPr/>
          <p:nvPr/>
        </p:nvPicPr>
        <p:blipFill>
          <a:blip r:embed="rId3"/>
          <a:srcRect l="1591" t="4244" r="0" b="0"/>
          <a:stretch/>
        </p:blipFill>
        <p:spPr>
          <a:xfrm>
            <a:off x="6877080" y="2349360"/>
            <a:ext cx="2266920" cy="164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ktoren"/>
          <p:cNvPicPr/>
          <p:nvPr/>
        </p:nvPicPr>
        <p:blipFill>
          <a:blip r:embed="rId4"/>
          <a:srcRect l="16328" t="23516" r="1730" b="0"/>
          <a:stretch/>
        </p:blipFill>
        <p:spPr>
          <a:xfrm>
            <a:off x="2987640" y="4753080"/>
            <a:ext cx="338472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rcRect l="17073" t="0" r="0" b="0"/>
          <a:stretch/>
        </p:blipFill>
        <p:spPr>
          <a:xfrm>
            <a:off x="0" y="4748040"/>
            <a:ext cx="2987640" cy="21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sher hatte H einen induktiven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onjunktionen (Und-Verknüpfung) und “Egal “ = “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lche Begriffe können damit nicht erfasst werd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ohne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ähle ein H’, das alle möglichen Begriffe erfa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heißt, H’ ist die Potenzmenge vo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’ erlaubt neben Konjunktionen auch Disjunktionen (Oder) und Neg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inneru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 A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B | = | B | 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| A 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, al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‘|=|X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{0,1}|=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(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96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7,9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4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ogegen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|H| = (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+1 = 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ehen Schranken S, G und der Versionsraum bei H’ au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merkung: Die Schranken und der Versionsraum beschreiben die  verbliebene Unsicherheit des Lernverfahr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’ ist die Disjunktion aller posi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spezifischste Konzept besteht aus gerade den beobachteten bisherigen positiven Beispi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’ ist die Negation der Konjunktion aller negativen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as generellste Konzept hat keines der negativen Beispiele drin, aber alle ande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34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’ hat also genau ein Element: 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ernen ohne induktiven Bia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0520" y="1371240"/>
            <a:ext cx="851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H’ entspricht je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Teilmenge vo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Versionsraum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steht aus allen Teilmengen von X, die zwische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und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 liegen: VS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{h |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’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kann man mit S’ und G’ ein neues x bewer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spannt alle mit den Trainingsbeispielen konsistente Konzepte zwischen S’ und G’ au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heitsentscheid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 neu ist, dann ist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und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eine konsistente Hypothese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d.h.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\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, dann ist auch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’=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x}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H‘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: Es gibt genauso viele konsistente Hypothesen dafür, dass x positiv ist, wie dafür dass x negativ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: immer unentschied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hne Bias/Annahmen kann man überhaupt nicht generalisier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n nur bekannte Beispiele bew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so nur Speichern und nicht Lern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Induktiver Bias – formale Sich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mponenten einer formalen Definition für den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us zum Lernen von Begriff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zen X und Ziel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D = {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(x, D) = Klassifikation von x durch den Lerner L nach Training mit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induktive Bias des Lerners L ist jede minimale Menge von Bedingungen B über die Zielfunktion, so dass für jeder Begriff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zugehöriger Trainingsmenge D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: ((B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x)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(x, D)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bei A |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 bedeutet, B aus A logisch folgerbar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heißt, man bevorzugt bestimmte Hypothesen durch strukturelle Einschrän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gegebene Annahmen über den zu lernenden 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durch Ermöglichung von Generalis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352680" y="1042920"/>
            <a:ext cx="2362320" cy="2233440"/>
            <a:chOff x="3352680" y="1042920"/>
            <a:chExt cx="2362320" cy="2233440"/>
          </a:xfrm>
        </p:grpSpPr>
        <p:sp>
          <p:nvSpPr>
            <p:cNvPr id="708" name="Rectangle 3"/>
            <p:cNvSpPr/>
            <p:nvPr/>
          </p:nvSpPr>
          <p:spPr>
            <a:xfrm>
              <a:off x="3352680" y="1447560"/>
              <a:ext cx="2362320" cy="18288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.B. Kandidaten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limina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lgorithm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Hypothesenraum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"/>
            <p:cNvSpPr/>
            <p:nvPr/>
          </p:nvSpPr>
          <p:spPr>
            <a:xfrm>
              <a:off x="3466080" y="104292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duktiv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"/>
          <p:cNvGrpSpPr/>
          <p:nvPr/>
        </p:nvGrpSpPr>
        <p:grpSpPr>
          <a:xfrm>
            <a:off x="2487600" y="3716280"/>
            <a:ext cx="4114080" cy="2233800"/>
            <a:chOff x="2487600" y="3716280"/>
            <a:chExt cx="4114080" cy="2233800"/>
          </a:xfrm>
        </p:grpSpPr>
        <p:sp>
          <p:nvSpPr>
            <p:cNvPr id="711" name="Rectangle 6"/>
            <p:cNvSpPr/>
            <p:nvPr/>
          </p:nvSpPr>
          <p:spPr>
            <a:xfrm>
              <a:off x="3327120" y="4121280"/>
              <a:ext cx="2362320" cy="18288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heorembewei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7"/>
            <p:cNvSpPr/>
            <p:nvPr/>
          </p:nvSpPr>
          <p:spPr>
            <a:xfrm>
              <a:off x="2487600" y="3716280"/>
              <a:ext cx="41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tsprechendes Deduktives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8"/>
          <p:cNvGrpSpPr/>
          <p:nvPr/>
        </p:nvGrpSpPr>
        <p:grpSpPr>
          <a:xfrm>
            <a:off x="588960" y="1600200"/>
            <a:ext cx="2763720" cy="1143000"/>
            <a:chOff x="588960" y="1600200"/>
            <a:chExt cx="2763720" cy="1143000"/>
          </a:xfrm>
        </p:grpSpPr>
        <p:sp>
          <p:nvSpPr>
            <p:cNvPr id="714" name="Line 9"/>
            <p:cNvSpPr/>
            <p:nvPr/>
          </p:nvSpPr>
          <p:spPr>
            <a:xfrm>
              <a:off x="1295280" y="198144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0"/>
            <p:cNvSpPr/>
            <p:nvPr/>
          </p:nvSpPr>
          <p:spPr>
            <a:xfrm>
              <a:off x="1295280" y="27432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1"/>
            <p:cNvSpPr/>
            <p:nvPr/>
          </p:nvSpPr>
          <p:spPr>
            <a:xfrm>
              <a:off x="610560" y="1600200"/>
              <a:ext cx="21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2"/>
            <p:cNvSpPr/>
            <p:nvPr/>
          </p:nvSpPr>
          <p:spPr>
            <a:xfrm>
              <a:off x="588960" y="233064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13"/>
          <p:cNvGrpSpPr/>
          <p:nvPr/>
        </p:nvGrpSpPr>
        <p:grpSpPr>
          <a:xfrm>
            <a:off x="526320" y="4005360"/>
            <a:ext cx="2813760" cy="1709640"/>
            <a:chOff x="526320" y="4005360"/>
            <a:chExt cx="2813760" cy="1709640"/>
          </a:xfrm>
        </p:grpSpPr>
        <p:sp>
          <p:nvSpPr>
            <p:cNvPr id="719" name="Line 14"/>
            <p:cNvSpPr/>
            <p:nvPr/>
          </p:nvSpPr>
          <p:spPr>
            <a:xfrm>
              <a:off x="1282680" y="43434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>
              <a:off x="1282680" y="506088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6"/>
            <p:cNvSpPr/>
            <p:nvPr/>
          </p:nvSpPr>
          <p:spPr>
            <a:xfrm>
              <a:off x="689040" y="4005360"/>
              <a:ext cx="195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Trainingsbeisp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7"/>
            <p:cNvSpPr/>
            <p:nvPr/>
          </p:nvSpPr>
          <p:spPr>
            <a:xfrm>
              <a:off x="584280" y="4648320"/>
              <a:ext cx="166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eue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18"/>
            <p:cNvSpPr/>
            <p:nvPr/>
          </p:nvSpPr>
          <p:spPr>
            <a:xfrm>
              <a:off x="1282680" y="571500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9"/>
            <p:cNvSpPr/>
            <p:nvPr/>
          </p:nvSpPr>
          <p:spPr>
            <a:xfrm>
              <a:off x="526320" y="5299200"/>
              <a:ext cx="22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Bedingungen {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0"/>
          <p:cNvGrpSpPr/>
          <p:nvPr/>
        </p:nvGrpSpPr>
        <p:grpSpPr>
          <a:xfrm>
            <a:off x="392040" y="5715000"/>
            <a:ext cx="2264040" cy="929880"/>
            <a:chOff x="392040" y="5715000"/>
            <a:chExt cx="2264040" cy="929880"/>
          </a:xfrm>
        </p:grpSpPr>
        <p:sp>
          <p:nvSpPr>
            <p:cNvPr id="726" name="Rectangle 21"/>
            <p:cNvSpPr/>
            <p:nvPr/>
          </p:nvSpPr>
          <p:spPr>
            <a:xfrm>
              <a:off x="392040" y="6064200"/>
              <a:ext cx="226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Explizite Angabe d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600" spc="-1" strike="noStrike">
                  <a:solidFill>
                    <a:srgbClr val="000000"/>
                  </a:solidFill>
                  <a:latin typeface="Arial"/>
                </a:rPr>
                <a:t>Induktiven B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22"/>
            <p:cNvSpPr/>
            <p:nvPr/>
          </p:nvSpPr>
          <p:spPr>
            <a:xfrm flipV="1">
              <a:off x="1600200" y="57150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Group 23"/>
          <p:cNvGrpSpPr/>
          <p:nvPr/>
        </p:nvGrpSpPr>
        <p:grpSpPr>
          <a:xfrm>
            <a:off x="5715000" y="1704960"/>
            <a:ext cx="3183840" cy="657360"/>
            <a:chOff x="5715000" y="1704960"/>
            <a:chExt cx="3183840" cy="657360"/>
          </a:xfrm>
        </p:grpSpPr>
        <p:sp>
          <p:nvSpPr>
            <p:cNvPr id="729" name="Line 24"/>
            <p:cNvSpPr/>
            <p:nvPr/>
          </p:nvSpPr>
          <p:spPr>
            <a:xfrm>
              <a:off x="5715000" y="23623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25"/>
            <p:cNvSpPr/>
            <p:nvPr/>
          </p:nvSpPr>
          <p:spPr>
            <a:xfrm>
              <a:off x="5802840" y="17049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26"/>
          <p:cNvGrpSpPr/>
          <p:nvPr/>
        </p:nvGrpSpPr>
        <p:grpSpPr>
          <a:xfrm>
            <a:off x="5715000" y="4219560"/>
            <a:ext cx="3180600" cy="657360"/>
            <a:chOff x="5715000" y="4219560"/>
            <a:chExt cx="3180600" cy="657360"/>
          </a:xfrm>
        </p:grpSpPr>
        <p:sp>
          <p:nvSpPr>
            <p:cNvPr id="732" name="Line 27"/>
            <p:cNvSpPr/>
            <p:nvPr/>
          </p:nvSpPr>
          <p:spPr>
            <a:xfrm>
              <a:off x="5715000" y="4876920"/>
              <a:ext cx="20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28"/>
            <p:cNvSpPr/>
            <p:nvPr/>
          </p:nvSpPr>
          <p:spPr>
            <a:xfrm>
              <a:off x="5799600" y="4219560"/>
              <a:ext cx="309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lassifikation neuer Instanz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oder “Unbekannt”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on vs. Deduk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Lerner mit unterschiedlichem Bi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371600"/>
            <a:ext cx="817884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ner ohne Bias, “Auswendiglern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ur Klassifizierung von vorher Gesehen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Beispi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nn nur solche x klassifizieren, die schon gesehen wu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eichert Schranken für Generalisierungen und Spezialisi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 genau dann, wenn es im Versionsraum liegt und alle Versionen in der Bewertung überein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eneliminationsalgorithmus mit Mehrheitsentschei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Konzepte lassen sich al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us H b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hrheit der Konzepte in H wird recht h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kation von x, wenn es eine mehrheitliche Klassifikation der Versionen gibt (z.B. mehr als 7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er sind implizit statistische Annahmen vorhanden, wie repräsentativ die Trainingsbeispiele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ch stärkerer Bias: die spezifischste Hypothese g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izite Annahme: alle noch nicht bekannten Beispiele sind nega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assifiziert x anhand von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usammenfassung einiger Begriff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0" y="108576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wacht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riff - teilt X in zugehörige und nicht zugehörige (also +/-) Beispi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funktion – die Funktio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 die jeder Eingabe eine Bewertung zuordnet (z.B. Konzeptzugehörigk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 – Vorschlag für eine Funktion, die mutmaßlich ähnlich zu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ypothesenraum – Menge aller möglichen Hypothesen, die das Lernsystem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iningsbeispiele – Paare der Form &lt;x,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x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ifikation – Funktionen mit diskreten Werten, die Klassen be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-Algorit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en: Find-S, List-Then-Eliminate, Kandidateneli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istente Hypothesen – solche, die zu allen beobachteten Beispielen p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onsraum – Menge aller aktuell konsistenten Hypothe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duktive Generalisierung – Verfahren, welches Hypothesen generiert, die auch Fälle bewerten, die noch nicht bekannt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nahmen beim induktiven Ler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widersprüchlichen Daten, kein Rauschen, keine Feh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bt e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m Hypothesenraum, das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usreichend annähh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4000" y="1066680"/>
            <a:ext cx="9036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lernen ist eine Suche i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pothesenraum H ist der Suchra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entspricht Suchen und Finden der richtigen Hypo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ypothesenraum kann geordnet werden (generell-spezif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more-general-than Relation ist eine partiell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hat eine obere und untere Schran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ionsraum und Kandidateneliminationsalgorith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und G Schranken beschreiben die Unsicherheit der Le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ionsraum kann genutzt werden, um Vorhersagen für neue Beispiele zu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fahren kann genutzt werden, um Beispiele auszu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s Beispiel muss nur einmal gezeig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ver Ansatz vs. deduktiver An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riff des induktive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rnen mit unterschiedlich hohem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33520" y="1371240"/>
            <a:ext cx="49068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chine Learning, Tom Mitchell, McGraw Hill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Neural Networks - A Systematic Introduction", Raul Rojas, Springer-Verlag, Berlin, 19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Theorie der neuronalen Netze", Raul Rojas, Springer-Verlag, Berlin, 1993/99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The image “http://images.amazon.com/images/G/covers/0/07/042/807/0070428077.l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508720" y="260280"/>
            <a:ext cx="1817640" cy="27241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" descr="The image “http://page.mi.fu-berlin.de/~rojas/neural-1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7134120" y="1844640"/>
            <a:ext cx="2009880" cy="30560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6" descr="The image “http://page.mi.fu-berlin.de/~rojas/neural-2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5867280" y="3357720"/>
            <a:ext cx="1881360" cy="28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eitere Lern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scheidungsbä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s Schließ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bsymbol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371240"/>
            <a:ext cx="6567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ckgammon, Schach, Mühle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utes „Spielfeld“ für neue 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ypische Domäne von Men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TD-Gammon nutzt temporal difference (TD) Algorithmen und trainiert, während es mit sich selbst spi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 dem Treffen der American Association of Artificial Intelligence wurde 1998 ein Großmeister (der damalige Weltmeister) in 99 von 100 Spielen von einer Maschine besie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CHESS"/>
          <p:cNvPicPr/>
          <p:nvPr/>
        </p:nvPicPr>
        <p:blipFill>
          <a:blip r:embed="rId1"/>
          <a:stretch/>
        </p:blipFill>
        <p:spPr>
          <a:xfrm>
            <a:off x="7054920" y="62064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heckers"/>
          <p:cNvPicPr/>
          <p:nvPr/>
        </p:nvPicPr>
        <p:blipFill>
          <a:blip r:embed="rId2"/>
          <a:stretch/>
        </p:blipFill>
        <p:spPr>
          <a:xfrm>
            <a:off x="7020000" y="47340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Gart"/>
          <p:cNvPicPr/>
          <p:nvPr/>
        </p:nvPicPr>
        <p:blipFill>
          <a:blip r:embed="rId3"/>
          <a:srcRect l="9207" t="0" r="8215" b="0"/>
          <a:stretch/>
        </p:blipFill>
        <p:spPr>
          <a:xfrm>
            <a:off x="7020000" y="2781360"/>
            <a:ext cx="2124000" cy="18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ro_mark_left"/>
          <p:cNvPicPr/>
          <p:nvPr/>
        </p:nvPicPr>
        <p:blipFill>
          <a:blip r:embed="rId1"/>
          <a:srcRect l="0" t="10529" r="0" b="3510"/>
          <a:stretch/>
        </p:blipFill>
        <p:spPr>
          <a:xfrm>
            <a:off x="1447920" y="3581280"/>
            <a:ext cx="3065400" cy="327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rcRect l="8045" t="9462" r="11636" b="7284"/>
          <a:stretch/>
        </p:blipFill>
        <p:spPr>
          <a:xfrm>
            <a:off x="228600" y="83808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Beispiel: Handschriftenerkennu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43400" y="1371240"/>
            <a:ext cx="464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ennen von handgeschriebenen Zeichen hat bis 1995 sehr schlecht funktion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ünstliche Neuronale Netze haben dies im Apple Newton wesentlich verbessert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“...vastly improved hand-writing recognition...” (BYTE May 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003: Die aktuelle Version von Mac OS besitzt eine integrierte Unterstützung für Stifteingabe, die auf der Schrifterkennung des Newton bas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rum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Möglichkeiten mit Compu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oße Datenmengen können gesammelt, gespeichert und verarbeite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Anwen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Mining: Extraktion von Wissen aus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bst-adaptierende Programme/Filter: Anpassung an Nutzer und Situ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slernen: Robotik, Steuerungen, Unterstützung bei Entschei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, z.B.: Sprachverarbeitung, Fahrzeugsteu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gnitionswissenschaften: Theorien des Wissenserwerbs (z.B. durch Üb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in Lernsysteme, Recommender System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schinelles Lernen ist im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Fortschritte bei Algorithmen und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 Datenmengen, die automatisch verarbeitet werden 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fügbare Rechenleis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chsender Markt und Industrie für Nutzung des maschinellen Lernens (z.B. Data Mining, Sprachsysteme, Bioinforma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ozu maschinelles Lern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sfe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 Mining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ktion von Wissen aus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lbst-adaptierende Programme/Filt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sche Anpassung an Nutzer und Situ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onslern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botik, Steuerungen, Unterstützung bei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en, die schwer programmierbar sind (explizites Modell nicht verfügbar oder zu teuer)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verarbeitung, Fahrzeugsteu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seres Verständnis des menschlichen Lernens und Leh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gnitionswissenschaft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orien des Wissenserwerbs (z.B. durch Üb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Umsetz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Lernsysteme, Recommender Syste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Spezifikation von Lernproble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rnen = Verbesserung der Leistung eine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er Aufgabe 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ezug auf ein Leistungsmaß/eine Zielfunktion 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vorhergehenden Erfahrung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chach sp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: spiele Schach und gew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: Prozentsatz der gewonnenen Spiele in der ersten 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: Möglichkeit, gegen sich selbst zu sp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lösende F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genau soll die Erfahrung gesammel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s genau soll eigentlich gelern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wird das Gelernte repräsenti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lcher Lernalgorithmus soll angewand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1:34:58Z</dcterms:created>
  <dc:creator>ulla, Rainer Malaka, Ulrich Scholz</dc:creator>
  <dc:description/>
  <dc:language>en-US</dc:language>
  <cp:lastModifiedBy>Sebastian Rudolph</cp:lastModifiedBy>
  <cp:lastPrinted>2000-10-25T10:09:24Z</cp:lastPrinted>
  <dcterms:modified xsi:type="dcterms:W3CDTF">2008-05-21T08:10:03Z</dcterms:modified>
  <cp:revision>339</cp:revision>
  <dc:subject>Maschinelles Lernen</dc:subject>
  <dc:title>Einführung in die Künstliche Intelligen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